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9E30-449E-4BE7-80B4-AD14838B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7944-04E9-4E4D-B1FA-90DD7D10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8441-582A-48B7-B8D2-E0D42707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31D1-DB52-4612-B4B0-08F8EEFA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8544-59CF-4E47-B3AA-2EA8B864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A793-AE5A-4A30-88B5-F5A73527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2513-4B26-4F10-8006-3C9DC128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41B3-9AB3-4CFA-9B15-87FB7EAF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54A0-F305-45E0-B0DE-F5A042E1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D4F2-A7CA-416E-A93F-124F1E0F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9423-3B9B-4097-9C50-E0E57846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B9DA-56C5-4A57-93B3-788DA135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3C7B-D3CC-41CF-8F22-A69F32CBF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cipi di emodinamica; regolazione delle resistenze periferi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984240" y="112680"/>
          <a:ext cx="7540560" cy="6499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4240" y="112680"/>
                    <a:ext cx="7540560" cy="64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914400" y="141120"/>
          <a:ext cx="7089840" cy="6456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41120"/>
                    <a:ext cx="7089840" cy="645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62000" y="268200"/>
            <a:ext cx="8820000" cy="632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066680"/>
            <a:ext cx="5295960" cy="635040"/>
          </a:xfrm>
          <a:custGeom>
            <a:avLst/>
            <a:gdLst/>
            <a:ahLst/>
            <a:rect l="l" t="t" r="r" b="b"/>
            <a:pathLst>
              <a:path w="3336" h="400">
                <a:moveTo>
                  <a:pt x="0" y="0"/>
                </a:moveTo>
                <a:lnTo>
                  <a:pt x="1152" y="0"/>
                </a:lnTo>
                <a:lnTo>
                  <a:pt x="1392" y="240"/>
                </a:lnTo>
                <a:lnTo>
                  <a:pt x="2296" y="248"/>
                </a:lnTo>
                <a:lnTo>
                  <a:pt x="2552" y="400"/>
                </a:lnTo>
                <a:lnTo>
                  <a:pt x="3336" y="400"/>
                </a:lnTo>
              </a:path>
            </a:pathLst>
          </a:custGeom>
          <a:noFill/>
          <a:ln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09480" y="2209320"/>
            <a:ext cx="5295960" cy="635040"/>
          </a:xfrm>
          <a:custGeom>
            <a:avLst/>
            <a:gdLst/>
            <a:ahLst/>
            <a:rect l="l" t="t" r="r" b="b"/>
            <a:pathLst>
              <a:path w="3336" h="400">
                <a:moveTo>
                  <a:pt x="0" y="0"/>
                </a:moveTo>
                <a:lnTo>
                  <a:pt x="1152" y="0"/>
                </a:lnTo>
                <a:lnTo>
                  <a:pt x="1392" y="240"/>
                </a:lnTo>
                <a:lnTo>
                  <a:pt x="2296" y="248"/>
                </a:lnTo>
                <a:lnTo>
                  <a:pt x="2552" y="400"/>
                </a:lnTo>
                <a:lnTo>
                  <a:pt x="3336" y="400"/>
                </a:lnTo>
              </a:path>
            </a:pathLst>
          </a:custGeom>
          <a:noFill/>
          <a:ln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19320" y="1066680"/>
            <a:ext cx="228600" cy="1752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52680" y="1447920"/>
            <a:ext cx="15264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81480" y="1752480"/>
            <a:ext cx="15264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752480" y="167652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657600" y="175248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562720" y="1752480"/>
            <a:ext cx="76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09680" y="380880"/>
            <a:ext cx="457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sistenze in serie; R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R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+R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+R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914400" y="4191120"/>
            <a:ext cx="2597760" cy="2133360"/>
            <a:chOff x="914400" y="4191120"/>
            <a:chExt cx="2597760" cy="2133360"/>
          </a:xfrm>
        </p:grpSpPr>
        <p:grpSp>
          <p:nvGrpSpPr>
            <p:cNvPr id="313" name=""/>
            <p:cNvGrpSpPr/>
            <p:nvPr/>
          </p:nvGrpSpPr>
          <p:grpSpPr>
            <a:xfrm>
              <a:off x="914400" y="4191120"/>
              <a:ext cx="2514600" cy="838080"/>
              <a:chOff x="914400" y="4191120"/>
              <a:chExt cx="2514600" cy="838080"/>
            </a:xfrm>
          </p:grpSpPr>
          <p:sp>
            <p:nvSpPr>
              <p:cNvPr id="314" name=""/>
              <p:cNvSpPr/>
              <p:nvPr/>
            </p:nvSpPr>
            <p:spPr>
              <a:xfrm>
                <a:off x="914400" y="5029200"/>
                <a:ext cx="1752480" cy="0"/>
              </a:xfrm>
              <a:prstGeom prst="line">
                <a:avLst/>
              </a:prstGeom>
              <a:ln w="34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2666880" y="4191120"/>
                <a:ext cx="762120" cy="838080"/>
              </a:xfrm>
              <a:prstGeom prst="line">
                <a:avLst/>
              </a:prstGeom>
              <a:ln w="34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914400" y="5486400"/>
              <a:ext cx="1752480" cy="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66880" y="5486400"/>
              <a:ext cx="762120" cy="83808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43200" y="5257800"/>
              <a:ext cx="762120" cy="83808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2742120" y="4424760"/>
              <a:ext cx="770040" cy="83052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419720" y="4038480"/>
            <a:ext cx="2514600" cy="838080"/>
            <a:chOff x="4419720" y="4038480"/>
            <a:chExt cx="2514600" cy="838080"/>
          </a:xfrm>
        </p:grpSpPr>
        <p:sp>
          <p:nvSpPr>
            <p:cNvPr id="321" name=""/>
            <p:cNvSpPr/>
            <p:nvPr/>
          </p:nvSpPr>
          <p:spPr>
            <a:xfrm>
              <a:off x="4419720" y="4876560"/>
              <a:ext cx="1752480" cy="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6172200" y="4038480"/>
              <a:ext cx="762120" cy="838080"/>
            </a:xfrm>
            <a:prstGeom prst="line">
              <a:avLst/>
            </a:prstGeom>
            <a:ln w="34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4419720" y="5334120"/>
            <a:ext cx="1752480" cy="0"/>
          </a:xfrm>
          <a:prstGeom prst="line">
            <a:avLst/>
          </a:prstGeom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172200" y="5334120"/>
            <a:ext cx="762120" cy="838080"/>
          </a:xfrm>
          <a:prstGeom prst="line">
            <a:avLst/>
          </a:prstGeom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477120" y="5029200"/>
            <a:ext cx="685800" cy="762120"/>
          </a:xfrm>
          <a:prstGeom prst="line">
            <a:avLst/>
          </a:prstGeom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6503400" y="4372200"/>
            <a:ext cx="610920" cy="685080"/>
          </a:xfrm>
          <a:prstGeom prst="line">
            <a:avLst/>
          </a:prstGeom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752480" y="3048120"/>
            <a:ext cx="5410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sistenze in parallelo; 1/R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1/R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+1/R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+1/R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 (R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+R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+R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/ R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*R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*R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371600" y="502920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876920" y="4876920"/>
            <a:ext cx="76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505320" y="3962520"/>
            <a:ext cx="76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010280" y="388620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6019920"/>
            <a:ext cx="76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586728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066680" y="5029200"/>
            <a:ext cx="15264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724280" y="4876920"/>
            <a:ext cx="15264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8769200">
            <a:off x="2928960" y="4684320"/>
            <a:ext cx="15228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 rot="2830800">
            <a:off x="3010320" y="5637600"/>
            <a:ext cx="141480" cy="241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9144200">
            <a:off x="6557760" y="4417560"/>
            <a:ext cx="152280" cy="455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rot="2455800">
            <a:off x="6552360" y="5333400"/>
            <a:ext cx="152640" cy="455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534960" y="450720"/>
          <a:ext cx="7948800" cy="5950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4960" y="450720"/>
                    <a:ext cx="794880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539640" y="476280"/>
            <a:ext cx="7704360" cy="57610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20819400">
            <a:off x="3666600" y="1219320"/>
            <a:ext cx="38124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rot="780600">
            <a:off x="6943320" y="1295280"/>
            <a:ext cx="38088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3591000" y="838080"/>
            <a:ext cx="3581280" cy="1069920"/>
            <a:chOff x="3591000" y="838080"/>
            <a:chExt cx="3581280" cy="106992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838080"/>
              <a:ext cx="3581280" cy="1069920"/>
              <a:chOff x="3591000" y="838080"/>
              <a:chExt cx="3581280" cy="1069920"/>
            </a:xfrm>
          </p:grpSpPr>
          <p:sp>
            <p:nvSpPr>
              <p:cNvPr id="347" name=""/>
              <p:cNvSpPr/>
              <p:nvPr/>
            </p:nvSpPr>
            <p:spPr>
              <a:xfrm>
                <a:off x="3591000" y="838080"/>
                <a:ext cx="3581280" cy="382680"/>
              </a:xfrm>
              <a:custGeom>
                <a:avLst/>
                <a:gdLst/>
                <a:ahLst/>
                <a:rect l="l" t="t" r="r" b="b"/>
                <a:pathLst>
                  <a:path w="1584" h="241">
                    <a:moveTo>
                      <a:pt x="0" y="241"/>
                    </a:moveTo>
                    <a:cubicBezTo>
                      <a:pt x="69" y="214"/>
                      <a:pt x="280" y="122"/>
                      <a:pt x="416" y="82"/>
                    </a:cubicBezTo>
                    <a:cubicBezTo>
                      <a:pt x="552" y="42"/>
                      <a:pt x="687" y="2"/>
                      <a:pt x="816" y="1"/>
                    </a:cubicBezTo>
                    <a:cubicBezTo>
                      <a:pt x="945" y="0"/>
                      <a:pt x="1061" y="33"/>
                      <a:pt x="1189" y="73"/>
                    </a:cubicBezTo>
                    <a:cubicBezTo>
                      <a:pt x="1317" y="113"/>
                      <a:pt x="1518" y="213"/>
                      <a:pt x="1584" y="241"/>
                    </a:cubicBezTo>
                  </a:path>
                </a:pathLst>
              </a:custGeom>
              <a:noFill/>
              <a:ln w="255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91000" y="1525320"/>
                <a:ext cx="3581280" cy="382680"/>
              </a:xfrm>
              <a:custGeom>
                <a:avLst/>
                <a:gdLst/>
                <a:ahLst/>
                <a:rect l="l" t="t" r="r" b="b"/>
                <a:pathLst>
                  <a:path w="1584" h="241">
                    <a:moveTo>
                      <a:pt x="0" y="241"/>
                    </a:moveTo>
                    <a:cubicBezTo>
                      <a:pt x="69" y="214"/>
                      <a:pt x="280" y="122"/>
                      <a:pt x="416" y="82"/>
                    </a:cubicBezTo>
                    <a:cubicBezTo>
                      <a:pt x="552" y="42"/>
                      <a:pt x="687" y="2"/>
                      <a:pt x="816" y="1"/>
                    </a:cubicBezTo>
                    <a:cubicBezTo>
                      <a:pt x="945" y="0"/>
                      <a:pt x="1061" y="33"/>
                      <a:pt x="1189" y="73"/>
                    </a:cubicBezTo>
                    <a:cubicBezTo>
                      <a:pt x="1317" y="113"/>
                      <a:pt x="1518" y="213"/>
                      <a:pt x="1584" y="241"/>
                    </a:cubicBezTo>
                  </a:path>
                </a:pathLst>
              </a:custGeom>
              <a:noFill/>
              <a:ln w="255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4146480" y="879480"/>
              <a:ext cx="2814840" cy="844200"/>
              <a:chOff x="4146480" y="879480"/>
              <a:chExt cx="2814840" cy="844200"/>
            </a:xfrm>
          </p:grpSpPr>
          <p:sp>
            <p:nvSpPr>
              <p:cNvPr id="350" name=""/>
              <p:cNvSpPr/>
              <p:nvPr/>
            </p:nvSpPr>
            <p:spPr>
              <a:xfrm rot="20819400">
                <a:off x="4210200" y="1066680"/>
                <a:ext cx="380880" cy="6098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20819400">
                <a:off x="4819320" y="914400"/>
                <a:ext cx="380880" cy="6094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327000">
                <a:off x="5429160" y="914400"/>
                <a:ext cx="381240" cy="6094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150800">
                <a:off x="6038640" y="990360"/>
                <a:ext cx="380880" cy="6094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219800">
                <a:off x="6486120" y="1066680"/>
                <a:ext cx="380880" cy="6098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" name=""/>
          <p:cNvGrpSpPr/>
          <p:nvPr/>
        </p:nvGrpSpPr>
        <p:grpSpPr>
          <a:xfrm>
            <a:off x="3666960" y="2286000"/>
            <a:ext cx="3746520" cy="1069920"/>
            <a:chOff x="3666960" y="2286000"/>
            <a:chExt cx="3746520" cy="1069920"/>
          </a:xfrm>
        </p:grpSpPr>
        <p:grpSp>
          <p:nvGrpSpPr>
            <p:cNvPr id="356" name=""/>
            <p:cNvGrpSpPr/>
            <p:nvPr/>
          </p:nvGrpSpPr>
          <p:grpSpPr>
            <a:xfrm>
              <a:off x="3666960" y="2286000"/>
              <a:ext cx="3746520" cy="673200"/>
              <a:chOff x="3666960" y="2286000"/>
              <a:chExt cx="3746520" cy="673200"/>
            </a:xfrm>
          </p:grpSpPr>
          <p:sp>
            <p:nvSpPr>
              <p:cNvPr id="357" name=""/>
              <p:cNvSpPr/>
              <p:nvPr/>
            </p:nvSpPr>
            <p:spPr>
              <a:xfrm>
                <a:off x="3666960" y="2286000"/>
                <a:ext cx="3581640" cy="382680"/>
              </a:xfrm>
              <a:custGeom>
                <a:avLst/>
                <a:gdLst/>
                <a:ahLst/>
                <a:rect l="l" t="t" r="r" b="b"/>
                <a:pathLst>
                  <a:path w="1584" h="241">
                    <a:moveTo>
                      <a:pt x="0" y="241"/>
                    </a:moveTo>
                    <a:cubicBezTo>
                      <a:pt x="69" y="214"/>
                      <a:pt x="280" y="122"/>
                      <a:pt x="416" y="82"/>
                    </a:cubicBezTo>
                    <a:cubicBezTo>
                      <a:pt x="552" y="42"/>
                      <a:pt x="687" y="2"/>
                      <a:pt x="816" y="1"/>
                    </a:cubicBezTo>
                    <a:cubicBezTo>
                      <a:pt x="945" y="0"/>
                      <a:pt x="1061" y="33"/>
                      <a:pt x="1189" y="73"/>
                    </a:cubicBezTo>
                    <a:cubicBezTo>
                      <a:pt x="1317" y="113"/>
                      <a:pt x="1518" y="213"/>
                      <a:pt x="1584" y="241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248600" y="2666880"/>
                <a:ext cx="164880" cy="292320"/>
              </a:xfrm>
              <a:custGeom>
                <a:avLst/>
                <a:gdLst/>
                <a:ahLst/>
                <a:rect l="l" t="t" r="r" b="b"/>
                <a:pathLst>
                  <a:path w="104" h="184">
                    <a:moveTo>
                      <a:pt x="0" y="0"/>
                    </a:moveTo>
                    <a:cubicBezTo>
                      <a:pt x="17" y="31"/>
                      <a:pt x="82" y="146"/>
                      <a:pt x="104" y="184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3666960" y="2973240"/>
              <a:ext cx="3740400" cy="382680"/>
              <a:chOff x="3666960" y="2973240"/>
              <a:chExt cx="3740400" cy="382680"/>
            </a:xfrm>
          </p:grpSpPr>
          <p:sp>
            <p:nvSpPr>
              <p:cNvPr id="360" name=""/>
              <p:cNvSpPr/>
              <p:nvPr/>
            </p:nvSpPr>
            <p:spPr>
              <a:xfrm>
                <a:off x="3666960" y="2973240"/>
                <a:ext cx="3581640" cy="382680"/>
              </a:xfrm>
              <a:custGeom>
                <a:avLst/>
                <a:gdLst/>
                <a:ahLst/>
                <a:rect l="l" t="t" r="r" b="b"/>
                <a:pathLst>
                  <a:path w="1584" h="241">
                    <a:moveTo>
                      <a:pt x="0" y="241"/>
                    </a:moveTo>
                    <a:cubicBezTo>
                      <a:pt x="69" y="214"/>
                      <a:pt x="280" y="122"/>
                      <a:pt x="416" y="82"/>
                    </a:cubicBezTo>
                    <a:cubicBezTo>
                      <a:pt x="552" y="42"/>
                      <a:pt x="687" y="2"/>
                      <a:pt x="816" y="1"/>
                    </a:cubicBezTo>
                    <a:cubicBezTo>
                      <a:pt x="945" y="0"/>
                      <a:pt x="1061" y="33"/>
                      <a:pt x="1189" y="73"/>
                    </a:cubicBezTo>
                    <a:cubicBezTo>
                      <a:pt x="1317" y="113"/>
                      <a:pt x="1518" y="213"/>
                      <a:pt x="1584" y="241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248600" y="3111480"/>
                <a:ext cx="158760" cy="241200"/>
              </a:xfrm>
              <a:custGeom>
                <a:avLst/>
                <a:gdLst/>
                <a:ahLst/>
                <a:rect l="l" t="t" r="r" b="b"/>
                <a:pathLst>
                  <a:path w="100" h="152">
                    <a:moveTo>
                      <a:pt x="100" y="0"/>
                    </a:moveTo>
                    <a:cubicBezTo>
                      <a:pt x="83" y="25"/>
                      <a:pt x="21" y="120"/>
                      <a:pt x="0" y="152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2" name=""/>
          <p:cNvSpPr/>
          <p:nvPr/>
        </p:nvSpPr>
        <p:spPr>
          <a:xfrm rot="20819400">
            <a:off x="3885840" y="2668680"/>
            <a:ext cx="363600" cy="587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343400" y="2255040"/>
            <a:ext cx="2732400" cy="1022760"/>
            <a:chOff x="4343400" y="2255040"/>
            <a:chExt cx="2732400" cy="1022760"/>
          </a:xfrm>
        </p:grpSpPr>
        <p:sp>
          <p:nvSpPr>
            <p:cNvPr id="364" name=""/>
            <p:cNvSpPr/>
            <p:nvPr/>
          </p:nvSpPr>
          <p:spPr>
            <a:xfrm rot="20819400">
              <a:off x="4424400" y="2476080"/>
              <a:ext cx="361800" cy="76212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20819400">
              <a:off x="5003640" y="2286000"/>
              <a:ext cx="363600" cy="76212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327000">
              <a:off x="5584680" y="2286000"/>
              <a:ext cx="363600" cy="76212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150800">
              <a:off x="6165720" y="2381040"/>
              <a:ext cx="362160" cy="76176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219800">
              <a:off x="6590880" y="2476080"/>
              <a:ext cx="363600" cy="76212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666960" y="2081160"/>
            <a:ext cx="3848400" cy="1425600"/>
            <a:chOff x="3666960" y="2081160"/>
            <a:chExt cx="3848400" cy="1425600"/>
          </a:xfrm>
        </p:grpSpPr>
        <p:sp>
          <p:nvSpPr>
            <p:cNvPr id="370" name=""/>
            <p:cNvSpPr/>
            <p:nvPr/>
          </p:nvSpPr>
          <p:spPr>
            <a:xfrm>
              <a:off x="3743280" y="3206880"/>
              <a:ext cx="3581280" cy="299880"/>
            </a:xfrm>
            <a:custGeom>
              <a:avLst/>
              <a:gdLst/>
              <a:ahLst/>
              <a:rect l="l" t="t" r="r" b="b"/>
              <a:pathLst>
                <a:path w="2256" h="189">
                  <a:moveTo>
                    <a:pt x="0" y="189"/>
                  </a:moveTo>
                  <a:cubicBezTo>
                    <a:pt x="99" y="169"/>
                    <a:pt x="402" y="99"/>
                    <a:pt x="594" y="68"/>
                  </a:cubicBezTo>
                  <a:cubicBezTo>
                    <a:pt x="786" y="37"/>
                    <a:pt x="968" y="4"/>
                    <a:pt x="1152" y="2"/>
                  </a:cubicBezTo>
                  <a:cubicBezTo>
                    <a:pt x="1336" y="0"/>
                    <a:pt x="1514" y="25"/>
                    <a:pt x="1698" y="56"/>
                  </a:cubicBezTo>
                  <a:cubicBezTo>
                    <a:pt x="1882" y="87"/>
                    <a:pt x="2140" y="161"/>
                    <a:pt x="2256" y="189"/>
                  </a:cubicBezTo>
                </a:path>
              </a:pathLst>
            </a:custGeom>
            <a:noFill/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324560" y="3133800"/>
              <a:ext cx="190800" cy="369720"/>
            </a:xfrm>
            <a:custGeom>
              <a:avLst/>
              <a:gdLst/>
              <a:ahLst/>
              <a:rect l="l" t="t" r="r" b="b"/>
              <a:pathLst>
                <a:path w="120" h="233">
                  <a:moveTo>
                    <a:pt x="120" y="0"/>
                  </a:moveTo>
                  <a:cubicBezTo>
                    <a:pt x="100" y="38"/>
                    <a:pt x="25" y="184"/>
                    <a:pt x="0" y="233"/>
                  </a:cubicBezTo>
                </a:path>
              </a:pathLst>
            </a:custGeom>
            <a:noFill/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66960" y="2081160"/>
              <a:ext cx="3581640" cy="434880"/>
            </a:xfrm>
            <a:custGeom>
              <a:avLst/>
              <a:gdLst/>
              <a:ahLst/>
              <a:rect l="l" t="t" r="r" b="b"/>
              <a:pathLst>
                <a:path w="2256" h="274">
                  <a:moveTo>
                    <a:pt x="0" y="274"/>
                  </a:moveTo>
                  <a:cubicBezTo>
                    <a:pt x="99" y="243"/>
                    <a:pt x="432" y="129"/>
                    <a:pt x="594" y="87"/>
                  </a:cubicBezTo>
                  <a:cubicBezTo>
                    <a:pt x="756" y="45"/>
                    <a:pt x="868" y="34"/>
                    <a:pt x="972" y="21"/>
                  </a:cubicBezTo>
                  <a:cubicBezTo>
                    <a:pt x="1076" y="8"/>
                    <a:pt x="1098" y="0"/>
                    <a:pt x="1218" y="9"/>
                  </a:cubicBezTo>
                  <a:cubicBezTo>
                    <a:pt x="1338" y="18"/>
                    <a:pt x="1519" y="31"/>
                    <a:pt x="1692" y="75"/>
                  </a:cubicBezTo>
                  <a:cubicBezTo>
                    <a:pt x="1865" y="119"/>
                    <a:pt x="2139" y="233"/>
                    <a:pt x="2256" y="274"/>
                  </a:cubicBezTo>
                </a:path>
              </a:pathLst>
            </a:custGeom>
            <a:noFill/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48600" y="2514600"/>
              <a:ext cx="26676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0" y="0"/>
                  </a:moveTo>
                  <a:cubicBezTo>
                    <a:pt x="28" y="48"/>
                    <a:pt x="133" y="228"/>
                    <a:pt x="168" y="288"/>
                  </a:cubicBezTo>
                </a:path>
              </a:pathLst>
            </a:custGeom>
            <a:noFill/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4048200" y="2111040"/>
              <a:ext cx="2743200" cy="405000"/>
              <a:chOff x="4048200" y="2111040"/>
              <a:chExt cx="2743200" cy="405000"/>
            </a:xfrm>
          </p:grpSpPr>
          <p:sp>
            <p:nvSpPr>
              <p:cNvPr id="375" name=""/>
              <p:cNvSpPr/>
              <p:nvPr/>
            </p:nvSpPr>
            <p:spPr>
              <a:xfrm flipV="1">
                <a:off x="4048200" y="2381400"/>
                <a:ext cx="0" cy="134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4209840" y="2341080"/>
                <a:ext cx="0" cy="13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4413240" y="2285640"/>
                <a:ext cx="0" cy="13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4591080" y="2246040"/>
                <a:ext cx="0" cy="13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4775040" y="2206800"/>
                <a:ext cx="0" cy="134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4992480" y="2150640"/>
                <a:ext cx="0" cy="13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5200560" y="2150640"/>
                <a:ext cx="0" cy="13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5356080" y="2111040"/>
                <a:ext cx="0" cy="13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5573520" y="2111040"/>
                <a:ext cx="0" cy="13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5810040" y="2111040"/>
                <a:ext cx="0" cy="13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5937120" y="2150640"/>
                <a:ext cx="0" cy="13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6154560" y="2150640"/>
                <a:ext cx="0" cy="13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6334200" y="2206800"/>
                <a:ext cx="0" cy="134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6516720" y="2285640"/>
                <a:ext cx="0" cy="13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6791400" y="2341080"/>
                <a:ext cx="0" cy="13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4124160" y="3024360"/>
              <a:ext cx="2743200" cy="404280"/>
              <a:chOff x="4124160" y="3024360"/>
              <a:chExt cx="2743200" cy="404280"/>
            </a:xfrm>
          </p:grpSpPr>
          <p:sp>
            <p:nvSpPr>
              <p:cNvPr id="391" name=""/>
              <p:cNvSpPr/>
              <p:nvPr/>
            </p:nvSpPr>
            <p:spPr>
              <a:xfrm>
                <a:off x="4124160" y="3294000"/>
                <a:ext cx="0" cy="134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285800" y="3254400"/>
                <a:ext cx="0" cy="134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489200" y="3198600"/>
                <a:ext cx="0" cy="134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667040" y="3159000"/>
                <a:ext cx="0" cy="134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851000" y="3119400"/>
                <a:ext cx="0" cy="134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68440" y="3063960"/>
                <a:ext cx="0" cy="134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276520" y="3063960"/>
                <a:ext cx="0" cy="134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432040" y="3024360"/>
                <a:ext cx="0" cy="134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649480" y="3024360"/>
                <a:ext cx="0" cy="134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86000" y="3024360"/>
                <a:ext cx="0" cy="134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013080" y="3063960"/>
                <a:ext cx="0" cy="134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230520" y="3063960"/>
                <a:ext cx="0" cy="134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410160" y="3119400"/>
                <a:ext cx="0" cy="134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592680" y="3198600"/>
                <a:ext cx="0" cy="134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867360" y="3254400"/>
                <a:ext cx="0" cy="134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6" name=""/>
          <p:cNvGrpSpPr/>
          <p:nvPr/>
        </p:nvGrpSpPr>
        <p:grpSpPr>
          <a:xfrm>
            <a:off x="3666960" y="4091040"/>
            <a:ext cx="3746520" cy="1069920"/>
            <a:chOff x="3666960" y="4091040"/>
            <a:chExt cx="3746520" cy="1069920"/>
          </a:xfrm>
        </p:grpSpPr>
        <p:grpSp>
          <p:nvGrpSpPr>
            <p:cNvPr id="407" name=""/>
            <p:cNvGrpSpPr/>
            <p:nvPr/>
          </p:nvGrpSpPr>
          <p:grpSpPr>
            <a:xfrm>
              <a:off x="3666960" y="4091040"/>
              <a:ext cx="3746520" cy="673200"/>
              <a:chOff x="3666960" y="4091040"/>
              <a:chExt cx="3746520" cy="673200"/>
            </a:xfrm>
          </p:grpSpPr>
          <p:sp>
            <p:nvSpPr>
              <p:cNvPr id="408" name=""/>
              <p:cNvSpPr/>
              <p:nvPr/>
            </p:nvSpPr>
            <p:spPr>
              <a:xfrm>
                <a:off x="3666960" y="4091040"/>
                <a:ext cx="3581640" cy="382680"/>
              </a:xfrm>
              <a:custGeom>
                <a:avLst/>
                <a:gdLst/>
                <a:ahLst/>
                <a:rect l="l" t="t" r="r" b="b"/>
                <a:pathLst>
                  <a:path w="1584" h="241">
                    <a:moveTo>
                      <a:pt x="0" y="241"/>
                    </a:moveTo>
                    <a:cubicBezTo>
                      <a:pt x="69" y="214"/>
                      <a:pt x="280" y="122"/>
                      <a:pt x="416" y="82"/>
                    </a:cubicBezTo>
                    <a:cubicBezTo>
                      <a:pt x="552" y="42"/>
                      <a:pt x="687" y="2"/>
                      <a:pt x="816" y="1"/>
                    </a:cubicBezTo>
                    <a:cubicBezTo>
                      <a:pt x="945" y="0"/>
                      <a:pt x="1061" y="33"/>
                      <a:pt x="1189" y="73"/>
                    </a:cubicBezTo>
                    <a:cubicBezTo>
                      <a:pt x="1317" y="113"/>
                      <a:pt x="1518" y="213"/>
                      <a:pt x="1584" y="241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248600" y="4471920"/>
                <a:ext cx="164880" cy="292320"/>
              </a:xfrm>
              <a:custGeom>
                <a:avLst/>
                <a:gdLst/>
                <a:ahLst/>
                <a:rect l="l" t="t" r="r" b="b"/>
                <a:pathLst>
                  <a:path w="104" h="184">
                    <a:moveTo>
                      <a:pt x="0" y="0"/>
                    </a:moveTo>
                    <a:cubicBezTo>
                      <a:pt x="17" y="31"/>
                      <a:pt x="82" y="146"/>
                      <a:pt x="104" y="184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3666960" y="4778280"/>
              <a:ext cx="3740400" cy="382680"/>
              <a:chOff x="3666960" y="4778280"/>
              <a:chExt cx="3740400" cy="382680"/>
            </a:xfrm>
          </p:grpSpPr>
          <p:sp>
            <p:nvSpPr>
              <p:cNvPr id="411" name=""/>
              <p:cNvSpPr/>
              <p:nvPr/>
            </p:nvSpPr>
            <p:spPr>
              <a:xfrm>
                <a:off x="3666960" y="4778280"/>
                <a:ext cx="3581640" cy="382680"/>
              </a:xfrm>
              <a:custGeom>
                <a:avLst/>
                <a:gdLst/>
                <a:ahLst/>
                <a:rect l="l" t="t" r="r" b="b"/>
                <a:pathLst>
                  <a:path w="1584" h="241">
                    <a:moveTo>
                      <a:pt x="0" y="241"/>
                    </a:moveTo>
                    <a:cubicBezTo>
                      <a:pt x="69" y="214"/>
                      <a:pt x="280" y="122"/>
                      <a:pt x="416" y="82"/>
                    </a:cubicBezTo>
                    <a:cubicBezTo>
                      <a:pt x="552" y="42"/>
                      <a:pt x="687" y="2"/>
                      <a:pt x="816" y="1"/>
                    </a:cubicBezTo>
                    <a:cubicBezTo>
                      <a:pt x="945" y="0"/>
                      <a:pt x="1061" y="33"/>
                      <a:pt x="1189" y="73"/>
                    </a:cubicBezTo>
                    <a:cubicBezTo>
                      <a:pt x="1317" y="113"/>
                      <a:pt x="1518" y="213"/>
                      <a:pt x="1584" y="241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248600" y="4916520"/>
                <a:ext cx="158760" cy="241200"/>
              </a:xfrm>
              <a:custGeom>
                <a:avLst/>
                <a:gdLst/>
                <a:ahLst/>
                <a:rect l="l" t="t" r="r" b="b"/>
                <a:pathLst>
                  <a:path w="100" h="152">
                    <a:moveTo>
                      <a:pt x="100" y="0"/>
                    </a:moveTo>
                    <a:cubicBezTo>
                      <a:pt x="83" y="25"/>
                      <a:pt x="21" y="120"/>
                      <a:pt x="0" y="152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"/>
          <p:cNvGrpSpPr/>
          <p:nvPr/>
        </p:nvGrpSpPr>
        <p:grpSpPr>
          <a:xfrm>
            <a:off x="4332240" y="4060080"/>
            <a:ext cx="3402360" cy="1113120"/>
            <a:chOff x="4332240" y="4060080"/>
            <a:chExt cx="3402360" cy="1113120"/>
          </a:xfrm>
        </p:grpSpPr>
        <p:sp>
          <p:nvSpPr>
            <p:cNvPr id="414" name=""/>
            <p:cNvSpPr/>
            <p:nvPr/>
          </p:nvSpPr>
          <p:spPr>
            <a:xfrm rot="20819400">
              <a:off x="4413240" y="4281120"/>
              <a:ext cx="361800" cy="76212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20819400">
              <a:off x="4992840" y="4091040"/>
              <a:ext cx="363240" cy="76212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327000">
              <a:off x="5573880" y="4091040"/>
              <a:ext cx="363240" cy="76212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1150800">
              <a:off x="6154560" y="4185720"/>
              <a:ext cx="362160" cy="76212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6108000">
              <a:off x="7142400" y="4536000"/>
              <a:ext cx="363600" cy="76212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3657600" y="3886200"/>
            <a:ext cx="3847680" cy="1425600"/>
            <a:chOff x="3657600" y="3886200"/>
            <a:chExt cx="3847680" cy="1425600"/>
          </a:xfrm>
        </p:grpSpPr>
        <p:grpSp>
          <p:nvGrpSpPr>
            <p:cNvPr id="420" name=""/>
            <p:cNvGrpSpPr/>
            <p:nvPr/>
          </p:nvGrpSpPr>
          <p:grpSpPr>
            <a:xfrm>
              <a:off x="4038480" y="3916440"/>
              <a:ext cx="2742840" cy="404640"/>
              <a:chOff x="4038480" y="3916440"/>
              <a:chExt cx="2742840" cy="404640"/>
            </a:xfrm>
          </p:grpSpPr>
          <p:sp>
            <p:nvSpPr>
              <p:cNvPr id="421" name=""/>
              <p:cNvSpPr/>
              <p:nvPr/>
            </p:nvSpPr>
            <p:spPr>
              <a:xfrm>
                <a:off x="4038480" y="4186080"/>
                <a:ext cx="0" cy="13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199760" y="4146480"/>
                <a:ext cx="0" cy="13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03160" y="4091040"/>
                <a:ext cx="0" cy="13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581000" y="4051440"/>
                <a:ext cx="0" cy="134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64960" y="4011480"/>
                <a:ext cx="0" cy="13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982400" y="3956040"/>
                <a:ext cx="0" cy="13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190480" y="3956040"/>
                <a:ext cx="0" cy="13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346000" y="3916440"/>
                <a:ext cx="0" cy="13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563440" y="3916440"/>
                <a:ext cx="0" cy="13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799960" y="3916440"/>
                <a:ext cx="0" cy="13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927040" y="3956040"/>
                <a:ext cx="0" cy="13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144480" y="3956040"/>
                <a:ext cx="0" cy="13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24120" y="4011480"/>
                <a:ext cx="0" cy="13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506640" y="4091040"/>
                <a:ext cx="0" cy="13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781320" y="4146480"/>
                <a:ext cx="0" cy="13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657600" y="3886200"/>
              <a:ext cx="3847680" cy="1425600"/>
              <a:chOff x="3657600" y="3886200"/>
              <a:chExt cx="3847680" cy="1425600"/>
            </a:xfrm>
          </p:grpSpPr>
          <p:sp>
            <p:nvSpPr>
              <p:cNvPr id="437" name=""/>
              <p:cNvSpPr/>
              <p:nvPr/>
            </p:nvSpPr>
            <p:spPr>
              <a:xfrm>
                <a:off x="3733560" y="5011560"/>
                <a:ext cx="3580920" cy="300240"/>
              </a:xfrm>
              <a:custGeom>
                <a:avLst/>
                <a:gdLst/>
                <a:ahLst/>
                <a:rect l="l" t="t" r="r" b="b"/>
                <a:pathLst>
                  <a:path w="2256" h="189">
                    <a:moveTo>
                      <a:pt x="0" y="189"/>
                    </a:moveTo>
                    <a:cubicBezTo>
                      <a:pt x="99" y="169"/>
                      <a:pt x="402" y="99"/>
                      <a:pt x="594" y="68"/>
                    </a:cubicBezTo>
                    <a:cubicBezTo>
                      <a:pt x="786" y="37"/>
                      <a:pt x="968" y="4"/>
                      <a:pt x="1152" y="2"/>
                    </a:cubicBezTo>
                    <a:cubicBezTo>
                      <a:pt x="1336" y="0"/>
                      <a:pt x="1514" y="25"/>
                      <a:pt x="1698" y="56"/>
                    </a:cubicBezTo>
                    <a:cubicBezTo>
                      <a:pt x="1882" y="87"/>
                      <a:pt x="2140" y="161"/>
                      <a:pt x="2256" y="189"/>
                    </a:cubicBezTo>
                  </a:path>
                </a:pathLst>
              </a:custGeom>
              <a:noFill/>
              <a:ln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4840" y="4938840"/>
                <a:ext cx="190440" cy="369720"/>
              </a:xfrm>
              <a:custGeom>
                <a:avLst/>
                <a:gdLst/>
                <a:ahLst/>
                <a:rect l="l" t="t" r="r" b="b"/>
                <a:pathLst>
                  <a:path w="120" h="233">
                    <a:moveTo>
                      <a:pt x="120" y="0"/>
                    </a:moveTo>
                    <a:cubicBezTo>
                      <a:pt x="100" y="38"/>
                      <a:pt x="25" y="184"/>
                      <a:pt x="0" y="233"/>
                    </a:cubicBezTo>
                  </a:path>
                </a:pathLst>
              </a:custGeom>
              <a:noFill/>
              <a:ln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657600" y="3886200"/>
                <a:ext cx="3581280" cy="434880"/>
              </a:xfrm>
              <a:custGeom>
                <a:avLst/>
                <a:gdLst/>
                <a:ahLst/>
                <a:rect l="l" t="t" r="r" b="b"/>
                <a:pathLst>
                  <a:path w="2256" h="274">
                    <a:moveTo>
                      <a:pt x="0" y="274"/>
                    </a:moveTo>
                    <a:cubicBezTo>
                      <a:pt x="99" y="243"/>
                      <a:pt x="432" y="129"/>
                      <a:pt x="594" y="87"/>
                    </a:cubicBezTo>
                    <a:cubicBezTo>
                      <a:pt x="756" y="45"/>
                      <a:pt x="868" y="34"/>
                      <a:pt x="972" y="21"/>
                    </a:cubicBezTo>
                    <a:cubicBezTo>
                      <a:pt x="1076" y="8"/>
                      <a:pt x="1098" y="0"/>
                      <a:pt x="1218" y="9"/>
                    </a:cubicBezTo>
                    <a:cubicBezTo>
                      <a:pt x="1338" y="18"/>
                      <a:pt x="1519" y="31"/>
                      <a:pt x="1692" y="75"/>
                    </a:cubicBezTo>
                    <a:cubicBezTo>
                      <a:pt x="1865" y="119"/>
                      <a:pt x="2139" y="233"/>
                      <a:pt x="2256" y="274"/>
                    </a:cubicBezTo>
                  </a:path>
                </a:pathLst>
              </a:custGeom>
              <a:noFill/>
              <a:ln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238880" y="4319640"/>
                <a:ext cx="266400" cy="457200"/>
              </a:xfrm>
              <a:custGeom>
                <a:avLst/>
                <a:gdLst/>
                <a:ahLst/>
                <a:rect l="l" t="t" r="r" b="b"/>
                <a:pathLst>
                  <a:path w="168" h="288">
                    <a:moveTo>
                      <a:pt x="0" y="0"/>
                    </a:moveTo>
                    <a:cubicBezTo>
                      <a:pt x="28" y="48"/>
                      <a:pt x="133" y="228"/>
                      <a:pt x="168" y="288"/>
                    </a:cubicBezTo>
                  </a:path>
                </a:pathLst>
              </a:custGeom>
              <a:noFill/>
              <a:ln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1" name=""/>
              <p:cNvGrpSpPr/>
              <p:nvPr/>
            </p:nvGrpSpPr>
            <p:grpSpPr>
              <a:xfrm>
                <a:off x="4114440" y="4828680"/>
                <a:ext cx="2742840" cy="405000"/>
                <a:chOff x="4114440" y="4828680"/>
                <a:chExt cx="2742840" cy="405000"/>
              </a:xfrm>
            </p:grpSpPr>
            <p:sp>
              <p:nvSpPr>
                <p:cNvPr id="442" name=""/>
                <p:cNvSpPr/>
                <p:nvPr/>
              </p:nvSpPr>
              <p:spPr>
                <a:xfrm flipV="1">
                  <a:off x="4114440" y="5098680"/>
                  <a:ext cx="0" cy="135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flipV="1">
                  <a:off x="4276080" y="5059080"/>
                  <a:ext cx="0" cy="135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V="1">
                  <a:off x="4479480" y="5003280"/>
                  <a:ext cx="0" cy="135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V="1">
                  <a:off x="4656960" y="4963680"/>
                  <a:ext cx="0" cy="135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V="1">
                  <a:off x="4841280" y="4924080"/>
                  <a:ext cx="0" cy="135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flipV="1">
                  <a:off x="5058720" y="4869000"/>
                  <a:ext cx="0" cy="134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V="1">
                  <a:off x="5266800" y="4869000"/>
                  <a:ext cx="0" cy="134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V="1">
                  <a:off x="5422320" y="4828680"/>
                  <a:ext cx="0" cy="135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V="1">
                  <a:off x="5639760" y="4828680"/>
                  <a:ext cx="0" cy="135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V="1">
                  <a:off x="5876280" y="4828680"/>
                  <a:ext cx="0" cy="135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V="1">
                  <a:off x="6003360" y="4869000"/>
                  <a:ext cx="0" cy="134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V="1">
                  <a:off x="6220800" y="4869000"/>
                  <a:ext cx="0" cy="134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V="1">
                  <a:off x="6400080" y="4924080"/>
                  <a:ext cx="0" cy="135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V="1">
                  <a:off x="6582600" y="5003280"/>
                  <a:ext cx="0" cy="135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V="1">
                  <a:off x="6857280" y="5059080"/>
                  <a:ext cx="0" cy="135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7" name=""/>
          <p:cNvSpPr/>
          <p:nvPr/>
        </p:nvSpPr>
        <p:spPr>
          <a:xfrm>
            <a:off x="914400" y="2187720"/>
            <a:ext cx="2057400" cy="1019160"/>
          </a:xfrm>
          <a:custGeom>
            <a:avLst/>
            <a:gdLst/>
            <a:ahLst/>
            <a:rect l="l" t="t" r="r" b="b"/>
            <a:pathLst>
              <a:path w="2512" h="608">
                <a:moveTo>
                  <a:pt x="9" y="468"/>
                </a:moveTo>
                <a:lnTo>
                  <a:pt x="3" y="468"/>
                </a:lnTo>
                <a:lnTo>
                  <a:pt x="0" y="471"/>
                </a:lnTo>
                <a:lnTo>
                  <a:pt x="0" y="479"/>
                </a:lnTo>
                <a:lnTo>
                  <a:pt x="3" y="482"/>
                </a:lnTo>
                <a:lnTo>
                  <a:pt x="4" y="482"/>
                </a:lnTo>
                <a:lnTo>
                  <a:pt x="23" y="487"/>
                </a:lnTo>
                <a:lnTo>
                  <a:pt x="41" y="493"/>
                </a:lnTo>
                <a:lnTo>
                  <a:pt x="42" y="494"/>
                </a:lnTo>
                <a:lnTo>
                  <a:pt x="61" y="497"/>
                </a:lnTo>
                <a:lnTo>
                  <a:pt x="59" y="496"/>
                </a:lnTo>
                <a:lnTo>
                  <a:pt x="77" y="502"/>
                </a:lnTo>
                <a:lnTo>
                  <a:pt x="79" y="503"/>
                </a:lnTo>
                <a:lnTo>
                  <a:pt x="97" y="506"/>
                </a:lnTo>
                <a:lnTo>
                  <a:pt x="96" y="505"/>
                </a:lnTo>
                <a:lnTo>
                  <a:pt x="114" y="511"/>
                </a:lnTo>
                <a:lnTo>
                  <a:pt x="115" y="512"/>
                </a:lnTo>
                <a:lnTo>
                  <a:pt x="134" y="515"/>
                </a:lnTo>
                <a:lnTo>
                  <a:pt x="132" y="514"/>
                </a:lnTo>
                <a:lnTo>
                  <a:pt x="150" y="520"/>
                </a:lnTo>
                <a:lnTo>
                  <a:pt x="152" y="522"/>
                </a:lnTo>
                <a:lnTo>
                  <a:pt x="170" y="525"/>
                </a:lnTo>
                <a:lnTo>
                  <a:pt x="169" y="523"/>
                </a:lnTo>
                <a:lnTo>
                  <a:pt x="187" y="529"/>
                </a:lnTo>
                <a:lnTo>
                  <a:pt x="188" y="531"/>
                </a:lnTo>
                <a:lnTo>
                  <a:pt x="207" y="534"/>
                </a:lnTo>
                <a:lnTo>
                  <a:pt x="205" y="532"/>
                </a:lnTo>
                <a:lnTo>
                  <a:pt x="223" y="537"/>
                </a:lnTo>
                <a:lnTo>
                  <a:pt x="225" y="538"/>
                </a:lnTo>
                <a:lnTo>
                  <a:pt x="243" y="541"/>
                </a:lnTo>
                <a:lnTo>
                  <a:pt x="242" y="540"/>
                </a:lnTo>
                <a:lnTo>
                  <a:pt x="260" y="546"/>
                </a:lnTo>
                <a:lnTo>
                  <a:pt x="261" y="547"/>
                </a:lnTo>
                <a:lnTo>
                  <a:pt x="280" y="550"/>
                </a:lnTo>
                <a:lnTo>
                  <a:pt x="278" y="549"/>
                </a:lnTo>
                <a:lnTo>
                  <a:pt x="296" y="553"/>
                </a:lnTo>
                <a:lnTo>
                  <a:pt x="298" y="555"/>
                </a:lnTo>
                <a:lnTo>
                  <a:pt x="316" y="558"/>
                </a:lnTo>
                <a:lnTo>
                  <a:pt x="315" y="557"/>
                </a:lnTo>
                <a:lnTo>
                  <a:pt x="351" y="566"/>
                </a:lnTo>
                <a:lnTo>
                  <a:pt x="353" y="567"/>
                </a:lnTo>
                <a:lnTo>
                  <a:pt x="369" y="570"/>
                </a:lnTo>
                <a:lnTo>
                  <a:pt x="368" y="569"/>
                </a:lnTo>
                <a:lnTo>
                  <a:pt x="386" y="573"/>
                </a:lnTo>
                <a:lnTo>
                  <a:pt x="388" y="575"/>
                </a:lnTo>
                <a:lnTo>
                  <a:pt x="406" y="578"/>
                </a:lnTo>
                <a:lnTo>
                  <a:pt x="406" y="576"/>
                </a:lnTo>
                <a:lnTo>
                  <a:pt x="426" y="581"/>
                </a:lnTo>
                <a:lnTo>
                  <a:pt x="426" y="582"/>
                </a:lnTo>
                <a:lnTo>
                  <a:pt x="444" y="585"/>
                </a:lnTo>
                <a:lnTo>
                  <a:pt x="442" y="584"/>
                </a:lnTo>
                <a:lnTo>
                  <a:pt x="461" y="588"/>
                </a:lnTo>
                <a:lnTo>
                  <a:pt x="462" y="590"/>
                </a:lnTo>
                <a:lnTo>
                  <a:pt x="499" y="596"/>
                </a:lnTo>
                <a:lnTo>
                  <a:pt x="497" y="595"/>
                </a:lnTo>
                <a:lnTo>
                  <a:pt x="515" y="599"/>
                </a:lnTo>
                <a:lnTo>
                  <a:pt x="517" y="601"/>
                </a:lnTo>
                <a:lnTo>
                  <a:pt x="553" y="607"/>
                </a:lnTo>
                <a:lnTo>
                  <a:pt x="555" y="607"/>
                </a:lnTo>
                <a:lnTo>
                  <a:pt x="556" y="605"/>
                </a:lnTo>
                <a:lnTo>
                  <a:pt x="559" y="605"/>
                </a:lnTo>
                <a:lnTo>
                  <a:pt x="559" y="604"/>
                </a:lnTo>
                <a:lnTo>
                  <a:pt x="561" y="602"/>
                </a:lnTo>
                <a:lnTo>
                  <a:pt x="562" y="599"/>
                </a:lnTo>
                <a:lnTo>
                  <a:pt x="581" y="490"/>
                </a:lnTo>
                <a:lnTo>
                  <a:pt x="597" y="391"/>
                </a:lnTo>
                <a:lnTo>
                  <a:pt x="596" y="392"/>
                </a:lnTo>
                <a:lnTo>
                  <a:pt x="620" y="293"/>
                </a:lnTo>
                <a:lnTo>
                  <a:pt x="632" y="248"/>
                </a:lnTo>
                <a:lnTo>
                  <a:pt x="651" y="182"/>
                </a:lnTo>
                <a:lnTo>
                  <a:pt x="651" y="184"/>
                </a:lnTo>
                <a:lnTo>
                  <a:pt x="669" y="140"/>
                </a:lnTo>
                <a:lnTo>
                  <a:pt x="687" y="106"/>
                </a:lnTo>
                <a:lnTo>
                  <a:pt x="710" y="56"/>
                </a:lnTo>
                <a:lnTo>
                  <a:pt x="727" y="27"/>
                </a:lnTo>
                <a:lnTo>
                  <a:pt x="724" y="30"/>
                </a:lnTo>
                <a:lnTo>
                  <a:pt x="751" y="14"/>
                </a:lnTo>
                <a:lnTo>
                  <a:pt x="748" y="15"/>
                </a:lnTo>
                <a:lnTo>
                  <a:pt x="772" y="15"/>
                </a:lnTo>
                <a:lnTo>
                  <a:pt x="769" y="14"/>
                </a:lnTo>
                <a:lnTo>
                  <a:pt x="797" y="23"/>
                </a:lnTo>
                <a:lnTo>
                  <a:pt x="794" y="21"/>
                </a:lnTo>
                <a:lnTo>
                  <a:pt x="804" y="32"/>
                </a:lnTo>
                <a:lnTo>
                  <a:pt x="822" y="43"/>
                </a:lnTo>
                <a:lnTo>
                  <a:pt x="859" y="70"/>
                </a:lnTo>
                <a:lnTo>
                  <a:pt x="856" y="67"/>
                </a:lnTo>
                <a:lnTo>
                  <a:pt x="873" y="93"/>
                </a:lnTo>
                <a:lnTo>
                  <a:pt x="874" y="93"/>
                </a:lnTo>
                <a:lnTo>
                  <a:pt x="895" y="123"/>
                </a:lnTo>
                <a:lnTo>
                  <a:pt x="894" y="123"/>
                </a:lnTo>
                <a:lnTo>
                  <a:pt x="912" y="150"/>
                </a:lnTo>
                <a:lnTo>
                  <a:pt x="923" y="176"/>
                </a:lnTo>
                <a:lnTo>
                  <a:pt x="923" y="175"/>
                </a:lnTo>
                <a:lnTo>
                  <a:pt x="937" y="214"/>
                </a:lnTo>
                <a:lnTo>
                  <a:pt x="947" y="243"/>
                </a:lnTo>
                <a:lnTo>
                  <a:pt x="955" y="266"/>
                </a:lnTo>
                <a:lnTo>
                  <a:pt x="967" y="296"/>
                </a:lnTo>
                <a:lnTo>
                  <a:pt x="968" y="300"/>
                </a:lnTo>
                <a:lnTo>
                  <a:pt x="970" y="301"/>
                </a:lnTo>
                <a:lnTo>
                  <a:pt x="972" y="301"/>
                </a:lnTo>
                <a:lnTo>
                  <a:pt x="973" y="303"/>
                </a:lnTo>
                <a:lnTo>
                  <a:pt x="975" y="303"/>
                </a:lnTo>
                <a:lnTo>
                  <a:pt x="976" y="301"/>
                </a:lnTo>
                <a:lnTo>
                  <a:pt x="979" y="301"/>
                </a:lnTo>
                <a:lnTo>
                  <a:pt x="979" y="300"/>
                </a:lnTo>
                <a:lnTo>
                  <a:pt x="1014" y="263"/>
                </a:lnTo>
                <a:lnTo>
                  <a:pt x="1016" y="261"/>
                </a:lnTo>
                <a:lnTo>
                  <a:pt x="1052" y="195"/>
                </a:lnTo>
                <a:lnTo>
                  <a:pt x="1043" y="198"/>
                </a:lnTo>
                <a:lnTo>
                  <a:pt x="1055" y="201"/>
                </a:lnTo>
                <a:lnTo>
                  <a:pt x="1054" y="201"/>
                </a:lnTo>
                <a:lnTo>
                  <a:pt x="1069" y="210"/>
                </a:lnTo>
                <a:lnTo>
                  <a:pt x="1070" y="210"/>
                </a:lnTo>
                <a:lnTo>
                  <a:pt x="1108" y="219"/>
                </a:lnTo>
                <a:lnTo>
                  <a:pt x="1107" y="219"/>
                </a:lnTo>
                <a:lnTo>
                  <a:pt x="1116" y="225"/>
                </a:lnTo>
                <a:lnTo>
                  <a:pt x="1118" y="225"/>
                </a:lnTo>
                <a:lnTo>
                  <a:pt x="1200" y="245"/>
                </a:lnTo>
                <a:lnTo>
                  <a:pt x="1201" y="246"/>
                </a:lnTo>
                <a:lnTo>
                  <a:pt x="1257" y="255"/>
                </a:lnTo>
                <a:lnTo>
                  <a:pt x="1256" y="254"/>
                </a:lnTo>
                <a:lnTo>
                  <a:pt x="1288" y="266"/>
                </a:lnTo>
                <a:lnTo>
                  <a:pt x="1330" y="281"/>
                </a:lnTo>
                <a:lnTo>
                  <a:pt x="1329" y="281"/>
                </a:lnTo>
                <a:lnTo>
                  <a:pt x="1343" y="290"/>
                </a:lnTo>
                <a:lnTo>
                  <a:pt x="1344" y="290"/>
                </a:lnTo>
                <a:lnTo>
                  <a:pt x="1364" y="298"/>
                </a:lnTo>
                <a:lnTo>
                  <a:pt x="1406" y="310"/>
                </a:lnTo>
                <a:lnTo>
                  <a:pt x="1426" y="316"/>
                </a:lnTo>
                <a:lnTo>
                  <a:pt x="1481" y="333"/>
                </a:lnTo>
                <a:lnTo>
                  <a:pt x="1499" y="341"/>
                </a:lnTo>
                <a:lnTo>
                  <a:pt x="1516" y="347"/>
                </a:lnTo>
                <a:lnTo>
                  <a:pt x="1534" y="353"/>
                </a:lnTo>
                <a:lnTo>
                  <a:pt x="1549" y="359"/>
                </a:lnTo>
                <a:lnTo>
                  <a:pt x="1568" y="365"/>
                </a:lnTo>
                <a:lnTo>
                  <a:pt x="1586" y="369"/>
                </a:lnTo>
                <a:lnTo>
                  <a:pt x="1587" y="369"/>
                </a:lnTo>
                <a:lnTo>
                  <a:pt x="1607" y="374"/>
                </a:lnTo>
                <a:lnTo>
                  <a:pt x="1606" y="374"/>
                </a:lnTo>
                <a:lnTo>
                  <a:pt x="1627" y="380"/>
                </a:lnTo>
                <a:lnTo>
                  <a:pt x="1645" y="386"/>
                </a:lnTo>
                <a:lnTo>
                  <a:pt x="1680" y="398"/>
                </a:lnTo>
                <a:lnTo>
                  <a:pt x="1698" y="403"/>
                </a:lnTo>
                <a:lnTo>
                  <a:pt x="1753" y="421"/>
                </a:lnTo>
                <a:lnTo>
                  <a:pt x="1771" y="426"/>
                </a:lnTo>
                <a:lnTo>
                  <a:pt x="1790" y="432"/>
                </a:lnTo>
                <a:lnTo>
                  <a:pt x="1791" y="432"/>
                </a:lnTo>
                <a:lnTo>
                  <a:pt x="1811" y="436"/>
                </a:lnTo>
                <a:lnTo>
                  <a:pt x="1809" y="436"/>
                </a:lnTo>
                <a:lnTo>
                  <a:pt x="1846" y="449"/>
                </a:lnTo>
                <a:lnTo>
                  <a:pt x="1864" y="453"/>
                </a:lnTo>
                <a:lnTo>
                  <a:pt x="1882" y="459"/>
                </a:lnTo>
                <a:lnTo>
                  <a:pt x="1899" y="464"/>
                </a:lnTo>
                <a:lnTo>
                  <a:pt x="1917" y="470"/>
                </a:lnTo>
                <a:lnTo>
                  <a:pt x="1990" y="488"/>
                </a:lnTo>
                <a:lnTo>
                  <a:pt x="2009" y="494"/>
                </a:lnTo>
                <a:lnTo>
                  <a:pt x="2063" y="508"/>
                </a:lnTo>
                <a:lnTo>
                  <a:pt x="2065" y="508"/>
                </a:lnTo>
                <a:lnTo>
                  <a:pt x="2085" y="512"/>
                </a:lnTo>
                <a:lnTo>
                  <a:pt x="2083" y="512"/>
                </a:lnTo>
                <a:lnTo>
                  <a:pt x="2101" y="517"/>
                </a:lnTo>
                <a:lnTo>
                  <a:pt x="2118" y="522"/>
                </a:lnTo>
                <a:lnTo>
                  <a:pt x="2191" y="540"/>
                </a:lnTo>
                <a:lnTo>
                  <a:pt x="2193" y="541"/>
                </a:lnTo>
                <a:lnTo>
                  <a:pt x="2211" y="544"/>
                </a:lnTo>
                <a:lnTo>
                  <a:pt x="2209" y="543"/>
                </a:lnTo>
                <a:lnTo>
                  <a:pt x="2264" y="557"/>
                </a:lnTo>
                <a:lnTo>
                  <a:pt x="2266" y="558"/>
                </a:lnTo>
                <a:lnTo>
                  <a:pt x="2284" y="561"/>
                </a:lnTo>
                <a:lnTo>
                  <a:pt x="2282" y="560"/>
                </a:lnTo>
                <a:lnTo>
                  <a:pt x="2301" y="566"/>
                </a:lnTo>
                <a:lnTo>
                  <a:pt x="2302" y="567"/>
                </a:lnTo>
                <a:lnTo>
                  <a:pt x="2320" y="570"/>
                </a:lnTo>
                <a:lnTo>
                  <a:pt x="2319" y="569"/>
                </a:lnTo>
                <a:lnTo>
                  <a:pt x="2337" y="573"/>
                </a:lnTo>
                <a:lnTo>
                  <a:pt x="2339" y="575"/>
                </a:lnTo>
                <a:lnTo>
                  <a:pt x="2357" y="578"/>
                </a:lnTo>
                <a:lnTo>
                  <a:pt x="2355" y="576"/>
                </a:lnTo>
                <a:lnTo>
                  <a:pt x="2374" y="581"/>
                </a:lnTo>
                <a:lnTo>
                  <a:pt x="2375" y="582"/>
                </a:lnTo>
                <a:lnTo>
                  <a:pt x="2393" y="585"/>
                </a:lnTo>
                <a:lnTo>
                  <a:pt x="2392" y="584"/>
                </a:lnTo>
                <a:lnTo>
                  <a:pt x="2410" y="588"/>
                </a:lnTo>
                <a:lnTo>
                  <a:pt x="2412" y="590"/>
                </a:lnTo>
                <a:lnTo>
                  <a:pt x="2448" y="596"/>
                </a:lnTo>
                <a:lnTo>
                  <a:pt x="2447" y="595"/>
                </a:lnTo>
                <a:lnTo>
                  <a:pt x="2465" y="599"/>
                </a:lnTo>
                <a:lnTo>
                  <a:pt x="2466" y="601"/>
                </a:lnTo>
                <a:lnTo>
                  <a:pt x="2485" y="604"/>
                </a:lnTo>
                <a:lnTo>
                  <a:pt x="2483" y="602"/>
                </a:lnTo>
                <a:lnTo>
                  <a:pt x="2501" y="607"/>
                </a:lnTo>
                <a:lnTo>
                  <a:pt x="2505" y="608"/>
                </a:lnTo>
                <a:lnTo>
                  <a:pt x="2506" y="607"/>
                </a:lnTo>
                <a:lnTo>
                  <a:pt x="2508" y="607"/>
                </a:lnTo>
                <a:lnTo>
                  <a:pt x="2511" y="604"/>
                </a:lnTo>
                <a:lnTo>
                  <a:pt x="2511" y="602"/>
                </a:lnTo>
                <a:lnTo>
                  <a:pt x="2512" y="601"/>
                </a:lnTo>
                <a:lnTo>
                  <a:pt x="2511" y="598"/>
                </a:lnTo>
                <a:lnTo>
                  <a:pt x="2511" y="596"/>
                </a:lnTo>
                <a:lnTo>
                  <a:pt x="2508" y="593"/>
                </a:lnTo>
                <a:lnTo>
                  <a:pt x="2506" y="593"/>
                </a:lnTo>
                <a:lnTo>
                  <a:pt x="2488" y="588"/>
                </a:lnTo>
                <a:lnTo>
                  <a:pt x="2486" y="588"/>
                </a:lnTo>
                <a:lnTo>
                  <a:pt x="2468" y="585"/>
                </a:lnTo>
                <a:lnTo>
                  <a:pt x="2470" y="585"/>
                </a:lnTo>
                <a:lnTo>
                  <a:pt x="2451" y="581"/>
                </a:lnTo>
                <a:lnTo>
                  <a:pt x="2450" y="581"/>
                </a:lnTo>
                <a:lnTo>
                  <a:pt x="2413" y="575"/>
                </a:lnTo>
                <a:lnTo>
                  <a:pt x="2415" y="575"/>
                </a:lnTo>
                <a:lnTo>
                  <a:pt x="2397" y="570"/>
                </a:lnTo>
                <a:lnTo>
                  <a:pt x="2395" y="570"/>
                </a:lnTo>
                <a:lnTo>
                  <a:pt x="2377" y="567"/>
                </a:lnTo>
                <a:lnTo>
                  <a:pt x="2378" y="567"/>
                </a:lnTo>
                <a:lnTo>
                  <a:pt x="2360" y="563"/>
                </a:lnTo>
                <a:lnTo>
                  <a:pt x="2359" y="563"/>
                </a:lnTo>
                <a:lnTo>
                  <a:pt x="2340" y="560"/>
                </a:lnTo>
                <a:lnTo>
                  <a:pt x="2342" y="560"/>
                </a:lnTo>
                <a:lnTo>
                  <a:pt x="2324" y="555"/>
                </a:lnTo>
                <a:lnTo>
                  <a:pt x="2322" y="555"/>
                </a:lnTo>
                <a:lnTo>
                  <a:pt x="2304" y="552"/>
                </a:lnTo>
                <a:lnTo>
                  <a:pt x="2305" y="552"/>
                </a:lnTo>
                <a:lnTo>
                  <a:pt x="2287" y="546"/>
                </a:lnTo>
                <a:lnTo>
                  <a:pt x="2286" y="546"/>
                </a:lnTo>
                <a:lnTo>
                  <a:pt x="2267" y="543"/>
                </a:lnTo>
                <a:lnTo>
                  <a:pt x="2269" y="543"/>
                </a:lnTo>
                <a:lnTo>
                  <a:pt x="2214" y="529"/>
                </a:lnTo>
                <a:lnTo>
                  <a:pt x="2213" y="529"/>
                </a:lnTo>
                <a:lnTo>
                  <a:pt x="2194" y="526"/>
                </a:lnTo>
                <a:lnTo>
                  <a:pt x="2196" y="526"/>
                </a:lnTo>
                <a:lnTo>
                  <a:pt x="2123" y="508"/>
                </a:lnTo>
                <a:lnTo>
                  <a:pt x="2106" y="503"/>
                </a:lnTo>
                <a:lnTo>
                  <a:pt x="2088" y="499"/>
                </a:lnTo>
                <a:lnTo>
                  <a:pt x="2068" y="494"/>
                </a:lnTo>
                <a:lnTo>
                  <a:pt x="2013" y="480"/>
                </a:lnTo>
                <a:lnTo>
                  <a:pt x="1995" y="474"/>
                </a:lnTo>
                <a:lnTo>
                  <a:pt x="1922" y="456"/>
                </a:lnTo>
                <a:lnTo>
                  <a:pt x="1904" y="450"/>
                </a:lnTo>
                <a:lnTo>
                  <a:pt x="1887" y="445"/>
                </a:lnTo>
                <a:lnTo>
                  <a:pt x="1869" y="439"/>
                </a:lnTo>
                <a:lnTo>
                  <a:pt x="1851" y="435"/>
                </a:lnTo>
                <a:lnTo>
                  <a:pt x="1814" y="423"/>
                </a:lnTo>
                <a:lnTo>
                  <a:pt x="1794" y="418"/>
                </a:lnTo>
                <a:lnTo>
                  <a:pt x="1776" y="412"/>
                </a:lnTo>
                <a:lnTo>
                  <a:pt x="1758" y="407"/>
                </a:lnTo>
                <a:lnTo>
                  <a:pt x="1703" y="389"/>
                </a:lnTo>
                <a:lnTo>
                  <a:pt x="1685" y="385"/>
                </a:lnTo>
                <a:lnTo>
                  <a:pt x="1650" y="373"/>
                </a:lnTo>
                <a:lnTo>
                  <a:pt x="1632" y="366"/>
                </a:lnTo>
                <a:lnTo>
                  <a:pt x="1610" y="360"/>
                </a:lnTo>
                <a:lnTo>
                  <a:pt x="1590" y="356"/>
                </a:lnTo>
                <a:lnTo>
                  <a:pt x="1572" y="351"/>
                </a:lnTo>
                <a:lnTo>
                  <a:pt x="1554" y="345"/>
                </a:lnTo>
                <a:lnTo>
                  <a:pt x="1539" y="339"/>
                </a:lnTo>
                <a:lnTo>
                  <a:pt x="1521" y="333"/>
                </a:lnTo>
                <a:lnTo>
                  <a:pt x="1504" y="327"/>
                </a:lnTo>
                <a:lnTo>
                  <a:pt x="1505" y="327"/>
                </a:lnTo>
                <a:lnTo>
                  <a:pt x="1487" y="319"/>
                </a:lnTo>
                <a:lnTo>
                  <a:pt x="1486" y="319"/>
                </a:lnTo>
                <a:lnTo>
                  <a:pt x="1431" y="303"/>
                </a:lnTo>
                <a:lnTo>
                  <a:pt x="1411" y="296"/>
                </a:lnTo>
                <a:lnTo>
                  <a:pt x="1368" y="284"/>
                </a:lnTo>
                <a:lnTo>
                  <a:pt x="1349" y="277"/>
                </a:lnTo>
                <a:lnTo>
                  <a:pt x="1350" y="277"/>
                </a:lnTo>
                <a:lnTo>
                  <a:pt x="1337" y="268"/>
                </a:lnTo>
                <a:lnTo>
                  <a:pt x="1335" y="268"/>
                </a:lnTo>
                <a:lnTo>
                  <a:pt x="1292" y="252"/>
                </a:lnTo>
                <a:lnTo>
                  <a:pt x="1260" y="240"/>
                </a:lnTo>
                <a:lnTo>
                  <a:pt x="1259" y="240"/>
                </a:lnTo>
                <a:lnTo>
                  <a:pt x="1203" y="231"/>
                </a:lnTo>
                <a:lnTo>
                  <a:pt x="1204" y="231"/>
                </a:lnTo>
                <a:lnTo>
                  <a:pt x="1122" y="211"/>
                </a:lnTo>
                <a:lnTo>
                  <a:pt x="1124" y="211"/>
                </a:lnTo>
                <a:lnTo>
                  <a:pt x="1114" y="205"/>
                </a:lnTo>
                <a:lnTo>
                  <a:pt x="1113" y="205"/>
                </a:lnTo>
                <a:lnTo>
                  <a:pt x="1075" y="196"/>
                </a:lnTo>
                <a:lnTo>
                  <a:pt x="1076" y="196"/>
                </a:lnTo>
                <a:lnTo>
                  <a:pt x="1061" y="187"/>
                </a:lnTo>
                <a:lnTo>
                  <a:pt x="1060" y="187"/>
                </a:lnTo>
                <a:lnTo>
                  <a:pt x="1048" y="184"/>
                </a:lnTo>
                <a:lnTo>
                  <a:pt x="1041" y="184"/>
                </a:lnTo>
                <a:lnTo>
                  <a:pt x="1038" y="187"/>
                </a:lnTo>
                <a:lnTo>
                  <a:pt x="1002" y="254"/>
                </a:lnTo>
                <a:lnTo>
                  <a:pt x="1003" y="252"/>
                </a:lnTo>
                <a:lnTo>
                  <a:pt x="968" y="289"/>
                </a:lnTo>
                <a:lnTo>
                  <a:pt x="981" y="292"/>
                </a:lnTo>
                <a:lnTo>
                  <a:pt x="968" y="261"/>
                </a:lnTo>
                <a:lnTo>
                  <a:pt x="961" y="239"/>
                </a:lnTo>
                <a:lnTo>
                  <a:pt x="950" y="210"/>
                </a:lnTo>
                <a:lnTo>
                  <a:pt x="937" y="170"/>
                </a:lnTo>
                <a:lnTo>
                  <a:pt x="926" y="144"/>
                </a:lnTo>
                <a:lnTo>
                  <a:pt x="926" y="143"/>
                </a:lnTo>
                <a:lnTo>
                  <a:pt x="908" y="116"/>
                </a:lnTo>
                <a:lnTo>
                  <a:pt x="886" y="85"/>
                </a:lnTo>
                <a:lnTo>
                  <a:pt x="870" y="59"/>
                </a:lnTo>
                <a:lnTo>
                  <a:pt x="868" y="58"/>
                </a:lnTo>
                <a:lnTo>
                  <a:pt x="832" y="30"/>
                </a:lnTo>
                <a:lnTo>
                  <a:pt x="830" y="29"/>
                </a:lnTo>
                <a:lnTo>
                  <a:pt x="812" y="18"/>
                </a:lnTo>
                <a:lnTo>
                  <a:pt x="813" y="20"/>
                </a:lnTo>
                <a:lnTo>
                  <a:pt x="803" y="9"/>
                </a:lnTo>
                <a:lnTo>
                  <a:pt x="801" y="9"/>
                </a:lnTo>
                <a:lnTo>
                  <a:pt x="774" y="0"/>
                </a:lnTo>
                <a:lnTo>
                  <a:pt x="743" y="0"/>
                </a:lnTo>
                <a:lnTo>
                  <a:pt x="716" y="17"/>
                </a:lnTo>
                <a:lnTo>
                  <a:pt x="713" y="20"/>
                </a:lnTo>
                <a:lnTo>
                  <a:pt x="696" y="49"/>
                </a:lnTo>
                <a:lnTo>
                  <a:pt x="696" y="50"/>
                </a:lnTo>
                <a:lnTo>
                  <a:pt x="673" y="100"/>
                </a:lnTo>
                <a:lnTo>
                  <a:pt x="673" y="99"/>
                </a:lnTo>
                <a:lnTo>
                  <a:pt x="655" y="132"/>
                </a:lnTo>
                <a:lnTo>
                  <a:pt x="655" y="134"/>
                </a:lnTo>
                <a:lnTo>
                  <a:pt x="637" y="178"/>
                </a:lnTo>
                <a:lnTo>
                  <a:pt x="619" y="243"/>
                </a:lnTo>
                <a:lnTo>
                  <a:pt x="607" y="289"/>
                </a:lnTo>
                <a:lnTo>
                  <a:pt x="582" y="388"/>
                </a:lnTo>
                <a:lnTo>
                  <a:pt x="582" y="389"/>
                </a:lnTo>
                <a:lnTo>
                  <a:pt x="565" y="488"/>
                </a:lnTo>
                <a:lnTo>
                  <a:pt x="547" y="598"/>
                </a:lnTo>
                <a:lnTo>
                  <a:pt x="555" y="591"/>
                </a:lnTo>
                <a:lnTo>
                  <a:pt x="518" y="585"/>
                </a:lnTo>
                <a:lnTo>
                  <a:pt x="520" y="585"/>
                </a:lnTo>
                <a:lnTo>
                  <a:pt x="502" y="581"/>
                </a:lnTo>
                <a:lnTo>
                  <a:pt x="500" y="581"/>
                </a:lnTo>
                <a:lnTo>
                  <a:pt x="464" y="575"/>
                </a:lnTo>
                <a:lnTo>
                  <a:pt x="465" y="575"/>
                </a:lnTo>
                <a:lnTo>
                  <a:pt x="447" y="570"/>
                </a:lnTo>
                <a:lnTo>
                  <a:pt x="445" y="570"/>
                </a:lnTo>
                <a:lnTo>
                  <a:pt x="427" y="567"/>
                </a:lnTo>
                <a:lnTo>
                  <a:pt x="429" y="567"/>
                </a:lnTo>
                <a:lnTo>
                  <a:pt x="409" y="563"/>
                </a:lnTo>
                <a:lnTo>
                  <a:pt x="407" y="563"/>
                </a:lnTo>
                <a:lnTo>
                  <a:pt x="389" y="560"/>
                </a:lnTo>
                <a:lnTo>
                  <a:pt x="391" y="560"/>
                </a:lnTo>
                <a:lnTo>
                  <a:pt x="372" y="555"/>
                </a:lnTo>
                <a:lnTo>
                  <a:pt x="356" y="552"/>
                </a:lnTo>
                <a:lnTo>
                  <a:pt x="319" y="543"/>
                </a:lnTo>
                <a:lnTo>
                  <a:pt x="318" y="543"/>
                </a:lnTo>
                <a:lnTo>
                  <a:pt x="299" y="540"/>
                </a:lnTo>
                <a:lnTo>
                  <a:pt x="301" y="540"/>
                </a:lnTo>
                <a:lnTo>
                  <a:pt x="283" y="535"/>
                </a:lnTo>
                <a:lnTo>
                  <a:pt x="281" y="535"/>
                </a:lnTo>
                <a:lnTo>
                  <a:pt x="263" y="532"/>
                </a:lnTo>
                <a:lnTo>
                  <a:pt x="264" y="532"/>
                </a:lnTo>
                <a:lnTo>
                  <a:pt x="246" y="526"/>
                </a:lnTo>
                <a:lnTo>
                  <a:pt x="245" y="526"/>
                </a:lnTo>
                <a:lnTo>
                  <a:pt x="226" y="523"/>
                </a:lnTo>
                <a:lnTo>
                  <a:pt x="228" y="523"/>
                </a:lnTo>
                <a:lnTo>
                  <a:pt x="210" y="518"/>
                </a:lnTo>
                <a:lnTo>
                  <a:pt x="208" y="518"/>
                </a:lnTo>
                <a:lnTo>
                  <a:pt x="190" y="515"/>
                </a:lnTo>
                <a:lnTo>
                  <a:pt x="191" y="515"/>
                </a:lnTo>
                <a:lnTo>
                  <a:pt x="173" y="509"/>
                </a:lnTo>
                <a:lnTo>
                  <a:pt x="172" y="509"/>
                </a:lnTo>
                <a:lnTo>
                  <a:pt x="153" y="506"/>
                </a:lnTo>
                <a:lnTo>
                  <a:pt x="155" y="506"/>
                </a:lnTo>
                <a:lnTo>
                  <a:pt x="137" y="500"/>
                </a:lnTo>
                <a:lnTo>
                  <a:pt x="135" y="500"/>
                </a:lnTo>
                <a:lnTo>
                  <a:pt x="117" y="497"/>
                </a:lnTo>
                <a:lnTo>
                  <a:pt x="118" y="497"/>
                </a:lnTo>
                <a:lnTo>
                  <a:pt x="100" y="491"/>
                </a:lnTo>
                <a:lnTo>
                  <a:pt x="99" y="491"/>
                </a:lnTo>
                <a:lnTo>
                  <a:pt x="80" y="488"/>
                </a:lnTo>
                <a:lnTo>
                  <a:pt x="82" y="488"/>
                </a:lnTo>
                <a:lnTo>
                  <a:pt x="64" y="482"/>
                </a:lnTo>
                <a:lnTo>
                  <a:pt x="62" y="482"/>
                </a:lnTo>
                <a:lnTo>
                  <a:pt x="44" y="479"/>
                </a:lnTo>
                <a:lnTo>
                  <a:pt x="45" y="479"/>
                </a:lnTo>
                <a:lnTo>
                  <a:pt x="27" y="473"/>
                </a:lnTo>
                <a:lnTo>
                  <a:pt x="9" y="468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14400" y="2971800"/>
            <a:ext cx="457200" cy="228600"/>
          </a:xfrm>
          <a:custGeom>
            <a:avLst/>
            <a:gdLst/>
            <a:ahLst/>
            <a:rect l="l" t="t" r="r" b="b"/>
            <a:pathLst>
              <a:path w="288" h="144">
                <a:moveTo>
                  <a:pt x="0" y="0"/>
                </a:moveTo>
                <a:cubicBezTo>
                  <a:pt x="15" y="8"/>
                  <a:pt x="62" y="35"/>
                  <a:pt x="88" y="48"/>
                </a:cubicBezTo>
                <a:cubicBezTo>
                  <a:pt x="114" y="61"/>
                  <a:pt x="123" y="64"/>
                  <a:pt x="156" y="80"/>
                </a:cubicBezTo>
                <a:cubicBezTo>
                  <a:pt x="189" y="96"/>
                  <a:pt x="261" y="131"/>
                  <a:pt x="288" y="144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370160" y="2190600"/>
            <a:ext cx="160200" cy="965520"/>
          </a:xfrm>
          <a:custGeom>
            <a:avLst/>
            <a:gdLst/>
            <a:ahLst/>
            <a:rect l="l" t="t" r="r" b="b"/>
            <a:pathLst>
              <a:path w="101" h="608">
                <a:moveTo>
                  <a:pt x="1" y="608"/>
                </a:moveTo>
                <a:cubicBezTo>
                  <a:pt x="1" y="595"/>
                  <a:pt x="0" y="559"/>
                  <a:pt x="1" y="532"/>
                </a:cubicBezTo>
                <a:cubicBezTo>
                  <a:pt x="2" y="505"/>
                  <a:pt x="6" y="467"/>
                  <a:pt x="9" y="444"/>
                </a:cubicBezTo>
                <a:cubicBezTo>
                  <a:pt x="12" y="421"/>
                  <a:pt x="14" y="419"/>
                  <a:pt x="17" y="392"/>
                </a:cubicBezTo>
                <a:cubicBezTo>
                  <a:pt x="20" y="365"/>
                  <a:pt x="26" y="316"/>
                  <a:pt x="29" y="284"/>
                </a:cubicBezTo>
                <a:cubicBezTo>
                  <a:pt x="32" y="252"/>
                  <a:pt x="30" y="236"/>
                  <a:pt x="37" y="200"/>
                </a:cubicBezTo>
                <a:cubicBezTo>
                  <a:pt x="44" y="164"/>
                  <a:pt x="62" y="101"/>
                  <a:pt x="73" y="68"/>
                </a:cubicBezTo>
                <a:cubicBezTo>
                  <a:pt x="84" y="35"/>
                  <a:pt x="95" y="14"/>
                  <a:pt x="101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538280" y="2195640"/>
            <a:ext cx="1433520" cy="1004760"/>
          </a:xfrm>
          <a:custGeom>
            <a:avLst/>
            <a:gdLst/>
            <a:ahLst/>
            <a:rect l="l" t="t" r="r" b="b"/>
            <a:pathLst>
              <a:path w="903" h="633">
                <a:moveTo>
                  <a:pt x="0" y="0"/>
                </a:moveTo>
                <a:cubicBezTo>
                  <a:pt x="8" y="7"/>
                  <a:pt x="36" y="27"/>
                  <a:pt x="48" y="45"/>
                </a:cubicBezTo>
                <a:cubicBezTo>
                  <a:pt x="60" y="63"/>
                  <a:pt x="69" y="83"/>
                  <a:pt x="75" y="108"/>
                </a:cubicBezTo>
                <a:cubicBezTo>
                  <a:pt x="81" y="133"/>
                  <a:pt x="81" y="166"/>
                  <a:pt x="87" y="198"/>
                </a:cubicBezTo>
                <a:lnTo>
                  <a:pt x="114" y="303"/>
                </a:lnTo>
                <a:lnTo>
                  <a:pt x="135" y="249"/>
                </a:lnTo>
                <a:cubicBezTo>
                  <a:pt x="141" y="231"/>
                  <a:pt x="140" y="193"/>
                  <a:pt x="150" y="192"/>
                </a:cubicBezTo>
                <a:cubicBezTo>
                  <a:pt x="160" y="191"/>
                  <a:pt x="173" y="223"/>
                  <a:pt x="195" y="240"/>
                </a:cubicBezTo>
                <a:cubicBezTo>
                  <a:pt x="217" y="257"/>
                  <a:pt x="258" y="280"/>
                  <a:pt x="285" y="297"/>
                </a:cubicBezTo>
                <a:cubicBezTo>
                  <a:pt x="312" y="314"/>
                  <a:pt x="323" y="320"/>
                  <a:pt x="354" y="339"/>
                </a:cubicBezTo>
                <a:cubicBezTo>
                  <a:pt x="385" y="358"/>
                  <a:pt x="433" y="390"/>
                  <a:pt x="468" y="411"/>
                </a:cubicBezTo>
                <a:cubicBezTo>
                  <a:pt x="503" y="432"/>
                  <a:pt x="533" y="451"/>
                  <a:pt x="564" y="468"/>
                </a:cubicBezTo>
                <a:cubicBezTo>
                  <a:pt x="595" y="485"/>
                  <a:pt x="624" y="501"/>
                  <a:pt x="651" y="516"/>
                </a:cubicBezTo>
                <a:cubicBezTo>
                  <a:pt x="678" y="531"/>
                  <a:pt x="706" y="547"/>
                  <a:pt x="726" y="558"/>
                </a:cubicBezTo>
                <a:cubicBezTo>
                  <a:pt x="746" y="569"/>
                  <a:pt x="742" y="567"/>
                  <a:pt x="771" y="579"/>
                </a:cubicBezTo>
                <a:cubicBezTo>
                  <a:pt x="800" y="591"/>
                  <a:pt x="876" y="622"/>
                  <a:pt x="903" y="633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1" name=""/>
          <p:cNvGraphicFramePr/>
          <p:nvPr/>
        </p:nvGraphicFramePr>
        <p:xfrm>
          <a:off x="379440" y="338040"/>
          <a:ext cx="8327880" cy="6132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9440" y="338040"/>
                    <a:ext cx="832788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062440" y="5028480"/>
            <a:ext cx="17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iasto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643720" y="5104800"/>
            <a:ext cx="17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iasto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92600" y="1188360"/>
            <a:ext cx="15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isto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305080" y="2050920"/>
            <a:ext cx="4172040" cy="2216160"/>
          </a:xfrm>
          <a:custGeom>
            <a:avLst/>
            <a:gdLst/>
            <a:ahLst/>
            <a:rect l="l" t="t" r="r" b="b"/>
            <a:pathLst>
              <a:path w="2628" h="1396">
                <a:moveTo>
                  <a:pt x="0" y="1084"/>
                </a:moveTo>
                <a:cubicBezTo>
                  <a:pt x="51" y="1114"/>
                  <a:pt x="216" y="1224"/>
                  <a:pt x="309" y="1267"/>
                </a:cubicBezTo>
                <a:cubicBezTo>
                  <a:pt x="402" y="1310"/>
                  <a:pt x="506" y="1351"/>
                  <a:pt x="558" y="1339"/>
                </a:cubicBezTo>
                <a:cubicBezTo>
                  <a:pt x="610" y="1327"/>
                  <a:pt x="607" y="1266"/>
                  <a:pt x="621" y="1195"/>
                </a:cubicBezTo>
                <a:cubicBezTo>
                  <a:pt x="635" y="1124"/>
                  <a:pt x="639" y="988"/>
                  <a:pt x="645" y="910"/>
                </a:cubicBezTo>
                <a:cubicBezTo>
                  <a:pt x="651" y="832"/>
                  <a:pt x="651" y="803"/>
                  <a:pt x="660" y="724"/>
                </a:cubicBezTo>
                <a:cubicBezTo>
                  <a:pt x="669" y="645"/>
                  <a:pt x="687" y="507"/>
                  <a:pt x="699" y="433"/>
                </a:cubicBezTo>
                <a:cubicBezTo>
                  <a:pt x="711" y="359"/>
                  <a:pt x="723" y="327"/>
                  <a:pt x="732" y="280"/>
                </a:cubicBezTo>
                <a:cubicBezTo>
                  <a:pt x="741" y="233"/>
                  <a:pt x="746" y="190"/>
                  <a:pt x="756" y="148"/>
                </a:cubicBezTo>
                <a:cubicBezTo>
                  <a:pt x="766" y="106"/>
                  <a:pt x="776" y="52"/>
                  <a:pt x="792" y="28"/>
                </a:cubicBezTo>
                <a:cubicBezTo>
                  <a:pt x="808" y="4"/>
                  <a:pt x="834" y="0"/>
                  <a:pt x="852" y="4"/>
                </a:cubicBezTo>
                <a:cubicBezTo>
                  <a:pt x="870" y="8"/>
                  <a:pt x="884" y="28"/>
                  <a:pt x="900" y="52"/>
                </a:cubicBezTo>
                <a:cubicBezTo>
                  <a:pt x="916" y="76"/>
                  <a:pt x="932" y="116"/>
                  <a:pt x="948" y="148"/>
                </a:cubicBezTo>
                <a:cubicBezTo>
                  <a:pt x="964" y="180"/>
                  <a:pt x="979" y="208"/>
                  <a:pt x="993" y="244"/>
                </a:cubicBezTo>
                <a:cubicBezTo>
                  <a:pt x="1007" y="280"/>
                  <a:pt x="1022" y="335"/>
                  <a:pt x="1032" y="367"/>
                </a:cubicBezTo>
                <a:cubicBezTo>
                  <a:pt x="1042" y="399"/>
                  <a:pt x="1045" y="407"/>
                  <a:pt x="1053" y="439"/>
                </a:cubicBezTo>
                <a:cubicBezTo>
                  <a:pt x="1061" y="471"/>
                  <a:pt x="1072" y="543"/>
                  <a:pt x="1080" y="559"/>
                </a:cubicBezTo>
                <a:cubicBezTo>
                  <a:pt x="1088" y="575"/>
                  <a:pt x="1094" y="558"/>
                  <a:pt x="1104" y="538"/>
                </a:cubicBezTo>
                <a:lnTo>
                  <a:pt x="1140" y="436"/>
                </a:lnTo>
                <a:cubicBezTo>
                  <a:pt x="1251" y="511"/>
                  <a:pt x="1522" y="831"/>
                  <a:pt x="1770" y="991"/>
                </a:cubicBezTo>
                <a:cubicBezTo>
                  <a:pt x="2018" y="1151"/>
                  <a:pt x="2449" y="1312"/>
                  <a:pt x="2628" y="1396"/>
                </a:cubicBezTo>
              </a:path>
            </a:pathLst>
          </a:custGeom>
          <a:noFill/>
          <a:ln w="349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653360" y="2407680"/>
            <a:ext cx="39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st. di tempo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= R*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828440" y="1707840"/>
            <a:ext cx="6034320" cy="2864160"/>
            <a:chOff x="1828440" y="1707840"/>
            <a:chExt cx="6034320" cy="2864160"/>
          </a:xfrm>
        </p:grpSpPr>
        <p:sp>
          <p:nvSpPr>
            <p:cNvPr id="469" name=""/>
            <p:cNvSpPr/>
            <p:nvPr/>
          </p:nvSpPr>
          <p:spPr>
            <a:xfrm flipV="1">
              <a:off x="2057400" y="1707840"/>
              <a:ext cx="0" cy="286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055960" y="4570560"/>
              <a:ext cx="5806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2055960" y="2050920"/>
              <a:ext cx="1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1828440" y="3048120"/>
              <a:ext cx="22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1829880" y="2050920"/>
              <a:ext cx="22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1828440" y="3962520"/>
              <a:ext cx="22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618840" y="1782000"/>
            <a:ext cx="1040400" cy="2349720"/>
            <a:chOff x="618840" y="1782000"/>
            <a:chExt cx="1040400" cy="2349720"/>
          </a:xfrm>
        </p:grpSpPr>
        <p:sp>
          <p:nvSpPr>
            <p:cNvPr id="476" name=""/>
            <p:cNvSpPr/>
            <p:nvPr/>
          </p:nvSpPr>
          <p:spPr>
            <a:xfrm>
              <a:off x="1039680" y="17820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1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039680" y="281844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112400" y="37328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16239000">
              <a:off x="322560" y="284544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mmH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2062440" y="5028480"/>
            <a:ext cx="17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iasto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643720" y="5104800"/>
            <a:ext cx="17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iasto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892600" y="1188360"/>
            <a:ext cx="15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isto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305080" y="2050920"/>
            <a:ext cx="4172040" cy="2216160"/>
          </a:xfrm>
          <a:custGeom>
            <a:avLst/>
            <a:gdLst/>
            <a:ahLst/>
            <a:rect l="l" t="t" r="r" b="b"/>
            <a:pathLst>
              <a:path w="2628" h="1396">
                <a:moveTo>
                  <a:pt x="0" y="1084"/>
                </a:moveTo>
                <a:cubicBezTo>
                  <a:pt x="51" y="1114"/>
                  <a:pt x="216" y="1224"/>
                  <a:pt x="309" y="1267"/>
                </a:cubicBezTo>
                <a:cubicBezTo>
                  <a:pt x="402" y="1310"/>
                  <a:pt x="506" y="1351"/>
                  <a:pt x="558" y="1339"/>
                </a:cubicBezTo>
                <a:cubicBezTo>
                  <a:pt x="610" y="1327"/>
                  <a:pt x="607" y="1266"/>
                  <a:pt x="621" y="1195"/>
                </a:cubicBezTo>
                <a:cubicBezTo>
                  <a:pt x="635" y="1124"/>
                  <a:pt x="639" y="988"/>
                  <a:pt x="645" y="910"/>
                </a:cubicBezTo>
                <a:cubicBezTo>
                  <a:pt x="651" y="832"/>
                  <a:pt x="651" y="803"/>
                  <a:pt x="660" y="724"/>
                </a:cubicBezTo>
                <a:cubicBezTo>
                  <a:pt x="669" y="645"/>
                  <a:pt x="687" y="507"/>
                  <a:pt x="699" y="433"/>
                </a:cubicBezTo>
                <a:cubicBezTo>
                  <a:pt x="711" y="359"/>
                  <a:pt x="723" y="327"/>
                  <a:pt x="732" y="280"/>
                </a:cubicBezTo>
                <a:cubicBezTo>
                  <a:pt x="741" y="233"/>
                  <a:pt x="746" y="190"/>
                  <a:pt x="756" y="148"/>
                </a:cubicBezTo>
                <a:cubicBezTo>
                  <a:pt x="766" y="106"/>
                  <a:pt x="776" y="52"/>
                  <a:pt x="792" y="28"/>
                </a:cubicBezTo>
                <a:cubicBezTo>
                  <a:pt x="808" y="4"/>
                  <a:pt x="834" y="0"/>
                  <a:pt x="852" y="4"/>
                </a:cubicBezTo>
                <a:cubicBezTo>
                  <a:pt x="870" y="8"/>
                  <a:pt x="884" y="28"/>
                  <a:pt x="900" y="52"/>
                </a:cubicBezTo>
                <a:cubicBezTo>
                  <a:pt x="916" y="76"/>
                  <a:pt x="932" y="116"/>
                  <a:pt x="948" y="148"/>
                </a:cubicBezTo>
                <a:cubicBezTo>
                  <a:pt x="964" y="180"/>
                  <a:pt x="979" y="208"/>
                  <a:pt x="993" y="244"/>
                </a:cubicBezTo>
                <a:cubicBezTo>
                  <a:pt x="1007" y="280"/>
                  <a:pt x="1022" y="335"/>
                  <a:pt x="1032" y="367"/>
                </a:cubicBezTo>
                <a:cubicBezTo>
                  <a:pt x="1042" y="399"/>
                  <a:pt x="1045" y="407"/>
                  <a:pt x="1053" y="439"/>
                </a:cubicBezTo>
                <a:cubicBezTo>
                  <a:pt x="1061" y="471"/>
                  <a:pt x="1072" y="543"/>
                  <a:pt x="1080" y="559"/>
                </a:cubicBezTo>
                <a:cubicBezTo>
                  <a:pt x="1088" y="575"/>
                  <a:pt x="1094" y="558"/>
                  <a:pt x="1104" y="538"/>
                </a:cubicBezTo>
                <a:lnTo>
                  <a:pt x="1140" y="436"/>
                </a:lnTo>
                <a:cubicBezTo>
                  <a:pt x="1251" y="511"/>
                  <a:pt x="1522" y="831"/>
                  <a:pt x="1770" y="991"/>
                </a:cubicBezTo>
                <a:cubicBezTo>
                  <a:pt x="2018" y="1151"/>
                  <a:pt x="2449" y="1312"/>
                  <a:pt x="2628" y="1396"/>
                </a:cubicBez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828440" y="1707840"/>
            <a:ext cx="6034320" cy="2864160"/>
            <a:chOff x="1828440" y="1707840"/>
            <a:chExt cx="6034320" cy="2864160"/>
          </a:xfrm>
        </p:grpSpPr>
        <p:sp>
          <p:nvSpPr>
            <p:cNvPr id="485" name=""/>
            <p:cNvSpPr/>
            <p:nvPr/>
          </p:nvSpPr>
          <p:spPr>
            <a:xfrm flipV="1">
              <a:off x="2057400" y="1707840"/>
              <a:ext cx="0" cy="286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55960" y="4570560"/>
              <a:ext cx="5806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055960" y="2050920"/>
              <a:ext cx="1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1828440" y="3048120"/>
              <a:ext cx="22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1829880" y="2050920"/>
              <a:ext cx="22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1828440" y="3962520"/>
              <a:ext cx="22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18840" y="1782000"/>
            <a:ext cx="1040400" cy="2349720"/>
            <a:chOff x="618840" y="1782000"/>
            <a:chExt cx="1040400" cy="2349720"/>
          </a:xfrm>
        </p:grpSpPr>
        <p:sp>
          <p:nvSpPr>
            <p:cNvPr id="492" name=""/>
            <p:cNvSpPr/>
            <p:nvPr/>
          </p:nvSpPr>
          <p:spPr>
            <a:xfrm>
              <a:off x="1039680" y="17820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1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039680" y="281844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112400" y="37328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16239000">
              <a:off x="322560" y="284544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mmH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4766760" y="353160"/>
            <a:ext cx="3815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ess. Pulsatile (differenziale)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istolica - diasto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657600" y="2050920"/>
            <a:ext cx="0" cy="22161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203640" y="2060640"/>
            <a:ext cx="3465360" cy="2228760"/>
          </a:xfrm>
          <a:custGeom>
            <a:avLst/>
            <a:gdLst/>
            <a:ahLst/>
            <a:rect l="l" t="t" r="r" b="b"/>
            <a:pathLst>
              <a:path w="2183" h="1404">
                <a:moveTo>
                  <a:pt x="12" y="1332"/>
                </a:moveTo>
                <a:cubicBezTo>
                  <a:pt x="0" y="1306"/>
                  <a:pt x="35" y="1265"/>
                  <a:pt x="45" y="1195"/>
                </a:cubicBezTo>
                <a:cubicBezTo>
                  <a:pt x="55" y="1125"/>
                  <a:pt x="63" y="988"/>
                  <a:pt x="69" y="910"/>
                </a:cubicBezTo>
                <a:cubicBezTo>
                  <a:pt x="75" y="832"/>
                  <a:pt x="75" y="803"/>
                  <a:pt x="84" y="724"/>
                </a:cubicBezTo>
                <a:cubicBezTo>
                  <a:pt x="93" y="645"/>
                  <a:pt x="111" y="507"/>
                  <a:pt x="123" y="433"/>
                </a:cubicBezTo>
                <a:cubicBezTo>
                  <a:pt x="135" y="359"/>
                  <a:pt x="147" y="327"/>
                  <a:pt x="156" y="280"/>
                </a:cubicBezTo>
                <a:cubicBezTo>
                  <a:pt x="165" y="233"/>
                  <a:pt x="170" y="190"/>
                  <a:pt x="180" y="148"/>
                </a:cubicBezTo>
                <a:cubicBezTo>
                  <a:pt x="190" y="106"/>
                  <a:pt x="200" y="52"/>
                  <a:pt x="216" y="28"/>
                </a:cubicBezTo>
                <a:cubicBezTo>
                  <a:pt x="232" y="4"/>
                  <a:pt x="258" y="0"/>
                  <a:pt x="276" y="4"/>
                </a:cubicBezTo>
                <a:cubicBezTo>
                  <a:pt x="294" y="8"/>
                  <a:pt x="308" y="28"/>
                  <a:pt x="324" y="52"/>
                </a:cubicBezTo>
                <a:cubicBezTo>
                  <a:pt x="340" y="76"/>
                  <a:pt x="356" y="116"/>
                  <a:pt x="372" y="148"/>
                </a:cubicBezTo>
                <a:cubicBezTo>
                  <a:pt x="388" y="180"/>
                  <a:pt x="403" y="208"/>
                  <a:pt x="417" y="244"/>
                </a:cubicBezTo>
                <a:cubicBezTo>
                  <a:pt x="431" y="280"/>
                  <a:pt x="446" y="335"/>
                  <a:pt x="456" y="367"/>
                </a:cubicBezTo>
                <a:cubicBezTo>
                  <a:pt x="466" y="399"/>
                  <a:pt x="469" y="407"/>
                  <a:pt x="477" y="439"/>
                </a:cubicBezTo>
                <a:cubicBezTo>
                  <a:pt x="485" y="471"/>
                  <a:pt x="496" y="543"/>
                  <a:pt x="504" y="559"/>
                </a:cubicBezTo>
                <a:cubicBezTo>
                  <a:pt x="512" y="575"/>
                  <a:pt x="518" y="558"/>
                  <a:pt x="528" y="538"/>
                </a:cubicBezTo>
                <a:lnTo>
                  <a:pt x="564" y="436"/>
                </a:lnTo>
                <a:cubicBezTo>
                  <a:pt x="675" y="511"/>
                  <a:pt x="954" y="830"/>
                  <a:pt x="1194" y="991"/>
                </a:cubicBezTo>
                <a:cubicBezTo>
                  <a:pt x="1434" y="1152"/>
                  <a:pt x="2183" y="1345"/>
                  <a:pt x="2004" y="1404"/>
                </a:cubicBezTo>
                <a:lnTo>
                  <a:pt x="120" y="1348"/>
                </a:lnTo>
                <a:lnTo>
                  <a:pt x="12" y="133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4920">
            <a:solidFill>
              <a:srgbClr val="f02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218040" y="3481560"/>
            <a:ext cx="3232080" cy="768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721400" y="1778400"/>
            <a:ext cx="4290840" cy="8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Pressione media =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astolica + (sistolica - distolica)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604800" y="254160"/>
          <a:ext cx="7765920" cy="6287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4800" y="254160"/>
                    <a:ext cx="7765920" cy="62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280" y="404640"/>
            <a:ext cx="7561080" cy="46087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838080" y="2362320"/>
            <a:ext cx="7009920" cy="1847160"/>
            <a:chOff x="838080" y="2362320"/>
            <a:chExt cx="7009920" cy="1847160"/>
          </a:xfrm>
        </p:grpSpPr>
        <p:sp>
          <p:nvSpPr>
            <p:cNvPr id="46" name=""/>
            <p:cNvSpPr/>
            <p:nvPr/>
          </p:nvSpPr>
          <p:spPr>
            <a:xfrm>
              <a:off x="838080" y="2362320"/>
              <a:ext cx="6913440" cy="587520"/>
            </a:xfrm>
            <a:custGeom>
              <a:avLst/>
              <a:gdLst/>
              <a:ahLst/>
              <a:rect l="l" t="t" r="r" b="b"/>
              <a:pathLst>
                <a:path w="3408" h="252">
                  <a:moveTo>
                    <a:pt x="0" y="252"/>
                  </a:moveTo>
                  <a:lnTo>
                    <a:pt x="960" y="252"/>
                  </a:lnTo>
                  <a:lnTo>
                    <a:pt x="1199" y="0"/>
                  </a:lnTo>
                  <a:lnTo>
                    <a:pt x="2090" y="0"/>
                  </a:lnTo>
                  <a:lnTo>
                    <a:pt x="2352" y="252"/>
                  </a:lnTo>
                  <a:lnTo>
                    <a:pt x="3408" y="252"/>
                  </a:lnTo>
                </a:path>
              </a:pathLst>
            </a:custGeom>
            <a:noFill/>
            <a:ln w="349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935280" y="3621600"/>
              <a:ext cx="6912720" cy="587520"/>
            </a:xfrm>
            <a:custGeom>
              <a:avLst/>
              <a:gdLst/>
              <a:ahLst/>
              <a:rect l="l" t="t" r="r" b="b"/>
              <a:pathLst>
                <a:path w="3408" h="252">
                  <a:moveTo>
                    <a:pt x="0" y="252"/>
                  </a:moveTo>
                  <a:lnTo>
                    <a:pt x="960" y="252"/>
                  </a:lnTo>
                  <a:lnTo>
                    <a:pt x="1199" y="0"/>
                  </a:lnTo>
                  <a:lnTo>
                    <a:pt x="2090" y="0"/>
                  </a:lnTo>
                  <a:lnTo>
                    <a:pt x="2352" y="252"/>
                  </a:lnTo>
                  <a:lnTo>
                    <a:pt x="3408" y="252"/>
                  </a:lnTo>
                </a:path>
              </a:pathLst>
            </a:custGeom>
            <a:noFill/>
            <a:ln w="349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1066680" y="3067200"/>
            <a:ext cx="152280" cy="380880"/>
            <a:chOff x="1066680" y="3067200"/>
            <a:chExt cx="152280" cy="380880"/>
          </a:xfrm>
        </p:grpSpPr>
        <p:sp>
          <p:nvSpPr>
            <p:cNvPr id="49" name=""/>
            <p:cNvSpPr/>
            <p:nvPr/>
          </p:nvSpPr>
          <p:spPr>
            <a:xfrm>
              <a:off x="1066680" y="3067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066680" y="32958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905120" y="3067200"/>
            <a:ext cx="152280" cy="380880"/>
            <a:chOff x="1905120" y="3067200"/>
            <a:chExt cx="152280" cy="380880"/>
          </a:xfrm>
        </p:grpSpPr>
        <p:sp>
          <p:nvSpPr>
            <p:cNvPr id="52" name=""/>
            <p:cNvSpPr/>
            <p:nvPr/>
          </p:nvSpPr>
          <p:spPr>
            <a:xfrm>
              <a:off x="1905120" y="3067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120" y="32958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666880" y="3067200"/>
            <a:ext cx="152280" cy="380880"/>
            <a:chOff x="2666880" y="3067200"/>
            <a:chExt cx="152280" cy="380880"/>
          </a:xfrm>
        </p:grpSpPr>
        <p:sp>
          <p:nvSpPr>
            <p:cNvPr id="55" name=""/>
            <p:cNvSpPr/>
            <p:nvPr/>
          </p:nvSpPr>
          <p:spPr>
            <a:xfrm>
              <a:off x="2666880" y="3067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66880" y="32958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200400" y="2533680"/>
            <a:ext cx="152280" cy="1371600"/>
            <a:chOff x="3200400" y="2533680"/>
            <a:chExt cx="152280" cy="1371600"/>
          </a:xfrm>
        </p:grpSpPr>
        <p:grpSp>
          <p:nvGrpSpPr>
            <p:cNvPr id="58" name=""/>
            <p:cNvGrpSpPr/>
            <p:nvPr/>
          </p:nvGrpSpPr>
          <p:grpSpPr>
            <a:xfrm>
              <a:off x="3200400" y="3067200"/>
              <a:ext cx="152280" cy="380880"/>
              <a:chOff x="3200400" y="3067200"/>
              <a:chExt cx="152280" cy="380880"/>
            </a:xfrm>
          </p:grpSpPr>
          <p:sp>
            <p:nvSpPr>
              <p:cNvPr id="59" name=""/>
              <p:cNvSpPr/>
              <p:nvPr/>
            </p:nvSpPr>
            <p:spPr>
              <a:xfrm>
                <a:off x="3200400" y="30672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200400" y="32958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3200400" y="2533680"/>
              <a:ext cx="152280" cy="380880"/>
              <a:chOff x="3200400" y="2533680"/>
              <a:chExt cx="152280" cy="380880"/>
            </a:xfrm>
          </p:grpSpPr>
          <p:sp>
            <p:nvSpPr>
              <p:cNvPr id="62" name=""/>
              <p:cNvSpPr/>
              <p:nvPr/>
            </p:nvSpPr>
            <p:spPr>
              <a:xfrm>
                <a:off x="3200400" y="253368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200400" y="276228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3200400" y="3524400"/>
              <a:ext cx="152280" cy="380880"/>
              <a:chOff x="3200400" y="3524400"/>
              <a:chExt cx="152280" cy="380880"/>
            </a:xfrm>
          </p:grpSpPr>
          <p:sp>
            <p:nvSpPr>
              <p:cNvPr id="65" name=""/>
              <p:cNvSpPr/>
              <p:nvPr/>
            </p:nvSpPr>
            <p:spPr>
              <a:xfrm>
                <a:off x="3200400" y="35244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200400" y="37530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3429000" y="2533680"/>
            <a:ext cx="152280" cy="1371600"/>
            <a:chOff x="3429000" y="2533680"/>
            <a:chExt cx="152280" cy="1371600"/>
          </a:xfrm>
        </p:grpSpPr>
        <p:grpSp>
          <p:nvGrpSpPr>
            <p:cNvPr id="68" name=""/>
            <p:cNvGrpSpPr/>
            <p:nvPr/>
          </p:nvGrpSpPr>
          <p:grpSpPr>
            <a:xfrm>
              <a:off x="3429000" y="3067200"/>
              <a:ext cx="152280" cy="380880"/>
              <a:chOff x="3429000" y="3067200"/>
              <a:chExt cx="152280" cy="380880"/>
            </a:xfrm>
          </p:grpSpPr>
          <p:sp>
            <p:nvSpPr>
              <p:cNvPr id="69" name=""/>
              <p:cNvSpPr/>
              <p:nvPr/>
            </p:nvSpPr>
            <p:spPr>
              <a:xfrm>
                <a:off x="3429000" y="30672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429000" y="32958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3429000" y="2533680"/>
              <a:ext cx="152280" cy="380880"/>
              <a:chOff x="3429000" y="2533680"/>
              <a:chExt cx="152280" cy="380880"/>
            </a:xfrm>
          </p:grpSpPr>
          <p:sp>
            <p:nvSpPr>
              <p:cNvPr id="72" name=""/>
              <p:cNvSpPr/>
              <p:nvPr/>
            </p:nvSpPr>
            <p:spPr>
              <a:xfrm>
                <a:off x="3429000" y="253368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429000" y="276228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3429000" y="3524400"/>
              <a:ext cx="152280" cy="380880"/>
              <a:chOff x="3429000" y="3524400"/>
              <a:chExt cx="152280" cy="380880"/>
            </a:xfrm>
          </p:grpSpPr>
          <p:sp>
            <p:nvSpPr>
              <p:cNvPr id="75" name=""/>
              <p:cNvSpPr/>
              <p:nvPr/>
            </p:nvSpPr>
            <p:spPr>
              <a:xfrm>
                <a:off x="3429000" y="35244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429000" y="37530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"/>
          <p:cNvGrpSpPr/>
          <p:nvPr/>
        </p:nvGrpSpPr>
        <p:grpSpPr>
          <a:xfrm>
            <a:off x="3657600" y="2533680"/>
            <a:ext cx="152280" cy="1371600"/>
            <a:chOff x="3657600" y="2533680"/>
            <a:chExt cx="152280" cy="1371600"/>
          </a:xfrm>
        </p:grpSpPr>
        <p:grpSp>
          <p:nvGrpSpPr>
            <p:cNvPr id="78" name=""/>
            <p:cNvGrpSpPr/>
            <p:nvPr/>
          </p:nvGrpSpPr>
          <p:grpSpPr>
            <a:xfrm>
              <a:off x="3657600" y="3067200"/>
              <a:ext cx="152280" cy="380880"/>
              <a:chOff x="3657600" y="3067200"/>
              <a:chExt cx="152280" cy="380880"/>
            </a:xfrm>
          </p:grpSpPr>
          <p:sp>
            <p:nvSpPr>
              <p:cNvPr id="79" name=""/>
              <p:cNvSpPr/>
              <p:nvPr/>
            </p:nvSpPr>
            <p:spPr>
              <a:xfrm>
                <a:off x="3657600" y="30672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57600" y="32958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3657600" y="2533680"/>
              <a:ext cx="152280" cy="380880"/>
              <a:chOff x="3657600" y="2533680"/>
              <a:chExt cx="152280" cy="380880"/>
            </a:xfrm>
          </p:grpSpPr>
          <p:sp>
            <p:nvSpPr>
              <p:cNvPr id="82" name=""/>
              <p:cNvSpPr/>
              <p:nvPr/>
            </p:nvSpPr>
            <p:spPr>
              <a:xfrm>
                <a:off x="3657600" y="253368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657600" y="276228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3657600" y="3524400"/>
              <a:ext cx="152280" cy="380880"/>
              <a:chOff x="3657600" y="3524400"/>
              <a:chExt cx="15228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3657600" y="35244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657600" y="37530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3886200" y="2533680"/>
            <a:ext cx="152280" cy="1371600"/>
            <a:chOff x="3886200" y="2533680"/>
            <a:chExt cx="152280" cy="1371600"/>
          </a:xfrm>
        </p:grpSpPr>
        <p:grpSp>
          <p:nvGrpSpPr>
            <p:cNvPr id="88" name=""/>
            <p:cNvGrpSpPr/>
            <p:nvPr/>
          </p:nvGrpSpPr>
          <p:grpSpPr>
            <a:xfrm>
              <a:off x="3886200" y="3067200"/>
              <a:ext cx="152280" cy="380880"/>
              <a:chOff x="3886200" y="3067200"/>
              <a:chExt cx="152280" cy="380880"/>
            </a:xfrm>
          </p:grpSpPr>
          <p:sp>
            <p:nvSpPr>
              <p:cNvPr id="89" name=""/>
              <p:cNvSpPr/>
              <p:nvPr/>
            </p:nvSpPr>
            <p:spPr>
              <a:xfrm>
                <a:off x="3886200" y="30672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86200" y="32958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3886200" y="2533680"/>
              <a:ext cx="152280" cy="380880"/>
              <a:chOff x="3886200" y="2533680"/>
              <a:chExt cx="152280" cy="380880"/>
            </a:xfrm>
          </p:grpSpPr>
          <p:sp>
            <p:nvSpPr>
              <p:cNvPr id="92" name=""/>
              <p:cNvSpPr/>
              <p:nvPr/>
            </p:nvSpPr>
            <p:spPr>
              <a:xfrm>
                <a:off x="3886200" y="253368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886200" y="276228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3886200" y="3524400"/>
              <a:ext cx="152280" cy="380880"/>
              <a:chOff x="3886200" y="3524400"/>
              <a:chExt cx="152280" cy="380880"/>
            </a:xfrm>
          </p:grpSpPr>
          <p:sp>
            <p:nvSpPr>
              <p:cNvPr id="95" name=""/>
              <p:cNvSpPr/>
              <p:nvPr/>
            </p:nvSpPr>
            <p:spPr>
              <a:xfrm>
                <a:off x="3886200" y="35244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86200" y="37530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"/>
          <p:cNvGrpSpPr/>
          <p:nvPr/>
        </p:nvGrpSpPr>
        <p:grpSpPr>
          <a:xfrm>
            <a:off x="4114800" y="2533680"/>
            <a:ext cx="152280" cy="1371600"/>
            <a:chOff x="4114800" y="2533680"/>
            <a:chExt cx="152280" cy="1371600"/>
          </a:xfrm>
        </p:grpSpPr>
        <p:grpSp>
          <p:nvGrpSpPr>
            <p:cNvPr id="98" name=""/>
            <p:cNvGrpSpPr/>
            <p:nvPr/>
          </p:nvGrpSpPr>
          <p:grpSpPr>
            <a:xfrm>
              <a:off x="4114800" y="3067200"/>
              <a:ext cx="152280" cy="380880"/>
              <a:chOff x="4114800" y="3067200"/>
              <a:chExt cx="15228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4114800" y="30672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114800" y="32958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114800" y="2533680"/>
              <a:ext cx="152280" cy="380880"/>
              <a:chOff x="4114800" y="2533680"/>
              <a:chExt cx="152280" cy="380880"/>
            </a:xfrm>
          </p:grpSpPr>
          <p:sp>
            <p:nvSpPr>
              <p:cNvPr id="102" name=""/>
              <p:cNvSpPr/>
              <p:nvPr/>
            </p:nvSpPr>
            <p:spPr>
              <a:xfrm>
                <a:off x="4114800" y="253368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114800" y="276228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114800" y="3524400"/>
              <a:ext cx="152280" cy="380880"/>
              <a:chOff x="4114800" y="3524400"/>
              <a:chExt cx="152280" cy="380880"/>
            </a:xfrm>
          </p:grpSpPr>
          <p:sp>
            <p:nvSpPr>
              <p:cNvPr id="105" name=""/>
              <p:cNvSpPr/>
              <p:nvPr/>
            </p:nvSpPr>
            <p:spPr>
              <a:xfrm>
                <a:off x="4114800" y="35244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14800" y="37530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"/>
          <p:cNvGrpSpPr/>
          <p:nvPr/>
        </p:nvGrpSpPr>
        <p:grpSpPr>
          <a:xfrm>
            <a:off x="4343400" y="2533680"/>
            <a:ext cx="152280" cy="1371600"/>
            <a:chOff x="4343400" y="2533680"/>
            <a:chExt cx="152280" cy="1371600"/>
          </a:xfrm>
        </p:grpSpPr>
        <p:grpSp>
          <p:nvGrpSpPr>
            <p:cNvPr id="108" name=""/>
            <p:cNvGrpSpPr/>
            <p:nvPr/>
          </p:nvGrpSpPr>
          <p:grpSpPr>
            <a:xfrm>
              <a:off x="4343400" y="3067200"/>
              <a:ext cx="152280" cy="380880"/>
              <a:chOff x="4343400" y="3067200"/>
              <a:chExt cx="152280" cy="380880"/>
            </a:xfrm>
          </p:grpSpPr>
          <p:sp>
            <p:nvSpPr>
              <p:cNvPr id="109" name=""/>
              <p:cNvSpPr/>
              <p:nvPr/>
            </p:nvSpPr>
            <p:spPr>
              <a:xfrm>
                <a:off x="4343400" y="30672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343400" y="32958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4343400" y="2533680"/>
              <a:ext cx="152280" cy="380880"/>
              <a:chOff x="4343400" y="2533680"/>
              <a:chExt cx="152280" cy="380880"/>
            </a:xfrm>
          </p:grpSpPr>
          <p:sp>
            <p:nvSpPr>
              <p:cNvPr id="112" name=""/>
              <p:cNvSpPr/>
              <p:nvPr/>
            </p:nvSpPr>
            <p:spPr>
              <a:xfrm>
                <a:off x="4343400" y="253368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343400" y="276228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4343400" y="3524400"/>
              <a:ext cx="152280" cy="380880"/>
              <a:chOff x="4343400" y="3524400"/>
              <a:chExt cx="152280" cy="380880"/>
            </a:xfrm>
          </p:grpSpPr>
          <p:sp>
            <p:nvSpPr>
              <p:cNvPr id="115" name=""/>
              <p:cNvSpPr/>
              <p:nvPr/>
            </p:nvSpPr>
            <p:spPr>
              <a:xfrm>
                <a:off x="4343400" y="35244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343400" y="37530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4572000" y="2533680"/>
            <a:ext cx="152280" cy="1371600"/>
            <a:chOff x="4572000" y="2533680"/>
            <a:chExt cx="152280" cy="1371600"/>
          </a:xfrm>
        </p:grpSpPr>
        <p:grpSp>
          <p:nvGrpSpPr>
            <p:cNvPr id="118" name=""/>
            <p:cNvGrpSpPr/>
            <p:nvPr/>
          </p:nvGrpSpPr>
          <p:grpSpPr>
            <a:xfrm>
              <a:off x="4572000" y="3067200"/>
              <a:ext cx="152280" cy="380880"/>
              <a:chOff x="4572000" y="3067200"/>
              <a:chExt cx="152280" cy="380880"/>
            </a:xfrm>
          </p:grpSpPr>
          <p:sp>
            <p:nvSpPr>
              <p:cNvPr id="119" name=""/>
              <p:cNvSpPr/>
              <p:nvPr/>
            </p:nvSpPr>
            <p:spPr>
              <a:xfrm>
                <a:off x="4572000" y="30672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72000" y="32958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4572000" y="2533680"/>
              <a:ext cx="152280" cy="380880"/>
              <a:chOff x="4572000" y="2533680"/>
              <a:chExt cx="152280" cy="380880"/>
            </a:xfrm>
          </p:grpSpPr>
          <p:sp>
            <p:nvSpPr>
              <p:cNvPr id="122" name=""/>
              <p:cNvSpPr/>
              <p:nvPr/>
            </p:nvSpPr>
            <p:spPr>
              <a:xfrm>
                <a:off x="4572000" y="253368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72000" y="276228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572000" y="3524400"/>
              <a:ext cx="152280" cy="380880"/>
              <a:chOff x="4572000" y="3524400"/>
              <a:chExt cx="152280" cy="380880"/>
            </a:xfrm>
          </p:grpSpPr>
          <p:sp>
            <p:nvSpPr>
              <p:cNvPr id="125" name=""/>
              <p:cNvSpPr/>
              <p:nvPr/>
            </p:nvSpPr>
            <p:spPr>
              <a:xfrm>
                <a:off x="4572000" y="35244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72000" y="37530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4800600" y="2533680"/>
            <a:ext cx="152280" cy="1371600"/>
            <a:chOff x="4800600" y="2533680"/>
            <a:chExt cx="152280" cy="1371600"/>
          </a:xfrm>
        </p:grpSpPr>
        <p:grpSp>
          <p:nvGrpSpPr>
            <p:cNvPr id="128" name=""/>
            <p:cNvGrpSpPr/>
            <p:nvPr/>
          </p:nvGrpSpPr>
          <p:grpSpPr>
            <a:xfrm>
              <a:off x="4800600" y="3067200"/>
              <a:ext cx="152280" cy="380880"/>
              <a:chOff x="4800600" y="3067200"/>
              <a:chExt cx="152280" cy="380880"/>
            </a:xfrm>
          </p:grpSpPr>
          <p:sp>
            <p:nvSpPr>
              <p:cNvPr id="129" name=""/>
              <p:cNvSpPr/>
              <p:nvPr/>
            </p:nvSpPr>
            <p:spPr>
              <a:xfrm>
                <a:off x="4800600" y="30672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00600" y="32958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4800600" y="2533680"/>
              <a:ext cx="152280" cy="380880"/>
              <a:chOff x="4800600" y="2533680"/>
              <a:chExt cx="152280" cy="380880"/>
            </a:xfrm>
          </p:grpSpPr>
          <p:sp>
            <p:nvSpPr>
              <p:cNvPr id="132" name=""/>
              <p:cNvSpPr/>
              <p:nvPr/>
            </p:nvSpPr>
            <p:spPr>
              <a:xfrm>
                <a:off x="4800600" y="253368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800600" y="276228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800600" y="3524400"/>
              <a:ext cx="152280" cy="380880"/>
              <a:chOff x="4800600" y="3524400"/>
              <a:chExt cx="152280" cy="380880"/>
            </a:xfrm>
          </p:grpSpPr>
          <p:sp>
            <p:nvSpPr>
              <p:cNvPr id="135" name=""/>
              <p:cNvSpPr/>
              <p:nvPr/>
            </p:nvSpPr>
            <p:spPr>
              <a:xfrm>
                <a:off x="4800600" y="35244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800600" y="37530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5029200" y="2533680"/>
            <a:ext cx="152280" cy="1371600"/>
            <a:chOff x="5029200" y="2533680"/>
            <a:chExt cx="152280" cy="1371600"/>
          </a:xfrm>
        </p:grpSpPr>
        <p:grpSp>
          <p:nvGrpSpPr>
            <p:cNvPr id="138" name=""/>
            <p:cNvGrpSpPr/>
            <p:nvPr/>
          </p:nvGrpSpPr>
          <p:grpSpPr>
            <a:xfrm>
              <a:off x="5029200" y="3067200"/>
              <a:ext cx="152280" cy="380880"/>
              <a:chOff x="5029200" y="3067200"/>
              <a:chExt cx="152280" cy="380880"/>
            </a:xfrm>
          </p:grpSpPr>
          <p:sp>
            <p:nvSpPr>
              <p:cNvPr id="139" name=""/>
              <p:cNvSpPr/>
              <p:nvPr/>
            </p:nvSpPr>
            <p:spPr>
              <a:xfrm>
                <a:off x="5029200" y="30672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029200" y="32958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029200" y="2533680"/>
              <a:ext cx="152280" cy="380880"/>
              <a:chOff x="5029200" y="2533680"/>
              <a:chExt cx="152280" cy="380880"/>
            </a:xfrm>
          </p:grpSpPr>
          <p:sp>
            <p:nvSpPr>
              <p:cNvPr id="142" name=""/>
              <p:cNvSpPr/>
              <p:nvPr/>
            </p:nvSpPr>
            <p:spPr>
              <a:xfrm>
                <a:off x="5029200" y="253368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029200" y="276228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029200" y="3524400"/>
              <a:ext cx="152280" cy="380880"/>
              <a:chOff x="5029200" y="3524400"/>
              <a:chExt cx="152280" cy="380880"/>
            </a:xfrm>
          </p:grpSpPr>
          <p:sp>
            <p:nvSpPr>
              <p:cNvPr id="145" name=""/>
              <p:cNvSpPr/>
              <p:nvPr/>
            </p:nvSpPr>
            <p:spPr>
              <a:xfrm>
                <a:off x="5029200" y="35244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029200" y="37530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5715000" y="3067200"/>
            <a:ext cx="152280" cy="380880"/>
            <a:chOff x="5715000" y="3067200"/>
            <a:chExt cx="152280" cy="380880"/>
          </a:xfrm>
        </p:grpSpPr>
        <p:sp>
          <p:nvSpPr>
            <p:cNvPr id="148" name=""/>
            <p:cNvSpPr/>
            <p:nvPr/>
          </p:nvSpPr>
          <p:spPr>
            <a:xfrm>
              <a:off x="5715000" y="3067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15000" y="32958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400800" y="3067200"/>
            <a:ext cx="152280" cy="380880"/>
            <a:chOff x="6400800" y="3067200"/>
            <a:chExt cx="152280" cy="380880"/>
          </a:xfrm>
        </p:grpSpPr>
        <p:sp>
          <p:nvSpPr>
            <p:cNvPr id="151" name=""/>
            <p:cNvSpPr/>
            <p:nvPr/>
          </p:nvSpPr>
          <p:spPr>
            <a:xfrm>
              <a:off x="6400800" y="3067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00800" y="32958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010280" y="3067200"/>
            <a:ext cx="152280" cy="380880"/>
            <a:chOff x="7010280" y="3067200"/>
            <a:chExt cx="152280" cy="380880"/>
          </a:xfrm>
        </p:grpSpPr>
        <p:sp>
          <p:nvSpPr>
            <p:cNvPr id="154" name=""/>
            <p:cNvSpPr/>
            <p:nvPr/>
          </p:nvSpPr>
          <p:spPr>
            <a:xfrm>
              <a:off x="7010280" y="3067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2958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295280" y="68580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In un condotto, la velocità è inversamente proporzionale alla se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19810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3 c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05320" y="16002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1 c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2133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3 c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200"/>
                            </p:stCondLst>
                            <p:childTnLst>
                              <p:par>
                                <p:cTn id="13" nodeType="afterEffect" fill="hold" presetClass="entr" presetID="16" presetSubtype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900"/>
                            </p:stCondLst>
                            <p:childTnLst>
                              <p:par>
                                <p:cTn id="1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00"/>
                            </p:stCondLst>
                            <p:childTnLst>
                              <p:par>
                                <p:cTn id="21" nodeType="afterEffect" fill="hold" presetClass="entr" presetID="16" presetSubtype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16" presetSubtype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600"/>
                            </p:stCondLst>
                            <p:childTnLst>
                              <p:par>
                                <p:cTn id="29" nodeType="afterEffect" fill="hold" presetClass="entr" presetID="16" presetSubtype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700"/>
                            </p:stCondLst>
                            <p:childTnLst>
                              <p:par>
                                <p:cTn id="33" nodeType="afterEffect" fill="hold" presetClass="entr" presetID="16" presetSubtype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800"/>
                            </p:stCondLst>
                            <p:childTnLst>
                              <p:par>
                                <p:cTn id="37" nodeType="afterEffect" fill="hold" presetClass="entr" presetID="16" presetSubtype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900"/>
                            </p:stCondLst>
                            <p:childTnLst>
                              <p:par>
                                <p:cTn id="41" nodeType="afterEffect" fill="hold" presetClass="entr" presetID="16" presetSubtype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9000"/>
                            </p:stCondLst>
                            <p:childTnLst>
                              <p:par>
                                <p:cTn id="45" nodeType="afterEffect" fill="hold" presetClass="entr" presetID="16" presetSubtype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100"/>
                            </p:stCondLst>
                            <p:childTnLst>
                              <p:par>
                                <p:cTn id="49" nodeType="afterEffect" fill="hold" presetClass="entr" presetID="16" presetSubtype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120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300"/>
                            </p:stCondLst>
                            <p:childTnLst>
                              <p:par>
                                <p:cTn id="5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2800"/>
                            </p:stCondLst>
                            <p:childTnLst>
                              <p:par>
                                <p:cTn id="61" nodeType="after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3600"/>
                            </p:stCondLst>
                            <p:childTnLst>
                              <p:par>
                                <p:cTn id="65" nodeType="after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4400"/>
                            </p:stCondLst>
                            <p:childTnLst>
                              <p:par>
                                <p:cTn id="69" nodeType="after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20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534960" y="1224000"/>
          <a:ext cx="7920000" cy="4248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4960" y="1224000"/>
                    <a:ext cx="792000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89000"/>
            <a:ext cx="9144000" cy="61927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11040" y="533520"/>
            <a:ext cx="1405080" cy="4217760"/>
            <a:chOff x="311040" y="533520"/>
            <a:chExt cx="1405080" cy="4217760"/>
          </a:xfrm>
        </p:grpSpPr>
        <p:grpSp>
          <p:nvGrpSpPr>
            <p:cNvPr id="164" name=""/>
            <p:cNvGrpSpPr/>
            <p:nvPr/>
          </p:nvGrpSpPr>
          <p:grpSpPr>
            <a:xfrm>
              <a:off x="311040" y="533520"/>
              <a:ext cx="1218960" cy="2818800"/>
              <a:chOff x="311040" y="533520"/>
              <a:chExt cx="1218960" cy="2818800"/>
            </a:xfrm>
          </p:grpSpPr>
          <p:sp>
            <p:nvSpPr>
              <p:cNvPr id="165" name=""/>
              <p:cNvSpPr/>
              <p:nvPr/>
            </p:nvSpPr>
            <p:spPr>
              <a:xfrm>
                <a:off x="311040" y="2413800"/>
                <a:ext cx="1218960" cy="938520"/>
              </a:xfrm>
              <a:custGeom>
                <a:avLst/>
                <a:gdLst/>
                <a:ahLst/>
                <a:rect l="l" t="t" r="r" b="b"/>
                <a:pathLst>
                  <a:path w="672" h="551">
                    <a:moveTo>
                      <a:pt x="0" y="0"/>
                    </a:moveTo>
                    <a:lnTo>
                      <a:pt x="199" y="551"/>
                    </a:lnTo>
                    <a:lnTo>
                      <a:pt x="462" y="551"/>
                    </a:lnTo>
                    <a:lnTo>
                      <a:pt x="6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11040" y="778680"/>
                <a:ext cx="1218960" cy="16351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11040" y="2086560"/>
                <a:ext cx="1218960" cy="4903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11040" y="533520"/>
                <a:ext cx="1218960" cy="4903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685800" y="3352680"/>
              <a:ext cx="1030320" cy="1398600"/>
            </a:xfrm>
            <a:custGeom>
              <a:avLst/>
              <a:gdLst/>
              <a:ahLst/>
              <a:rect l="l" t="t" r="r" b="b"/>
              <a:pathLst>
                <a:path w="649" h="881">
                  <a:moveTo>
                    <a:pt x="12" y="4"/>
                  </a:moveTo>
                  <a:cubicBezTo>
                    <a:pt x="0" y="88"/>
                    <a:pt x="1" y="199"/>
                    <a:pt x="12" y="292"/>
                  </a:cubicBezTo>
                  <a:cubicBezTo>
                    <a:pt x="23" y="385"/>
                    <a:pt x="40" y="472"/>
                    <a:pt x="77" y="563"/>
                  </a:cubicBezTo>
                  <a:cubicBezTo>
                    <a:pt x="114" y="654"/>
                    <a:pt x="139" y="791"/>
                    <a:pt x="231" y="836"/>
                  </a:cubicBezTo>
                  <a:cubicBezTo>
                    <a:pt x="323" y="881"/>
                    <a:pt x="561" y="877"/>
                    <a:pt x="631" y="836"/>
                  </a:cubicBezTo>
                  <a:lnTo>
                    <a:pt x="649" y="591"/>
                  </a:lnTo>
                  <a:cubicBezTo>
                    <a:pt x="616" y="546"/>
                    <a:pt x="485" y="601"/>
                    <a:pt x="431" y="563"/>
                  </a:cubicBezTo>
                  <a:cubicBezTo>
                    <a:pt x="377" y="525"/>
                    <a:pt x="349" y="428"/>
                    <a:pt x="322" y="363"/>
                  </a:cubicBezTo>
                  <a:cubicBezTo>
                    <a:pt x="295" y="298"/>
                    <a:pt x="277" y="233"/>
                    <a:pt x="268" y="173"/>
                  </a:cubicBezTo>
                  <a:cubicBezTo>
                    <a:pt x="259" y="113"/>
                    <a:pt x="268" y="36"/>
                    <a:pt x="268" y="0"/>
                  </a:cubicBezTo>
                  <a:lnTo>
                    <a:pt x="12" y="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676520" y="4267080"/>
            <a:ext cx="2133360" cy="1322280"/>
            <a:chOff x="1676520" y="4267080"/>
            <a:chExt cx="2133360" cy="1322280"/>
          </a:xfrm>
        </p:grpSpPr>
        <p:grpSp>
          <p:nvGrpSpPr>
            <p:cNvPr id="171" name=""/>
            <p:cNvGrpSpPr/>
            <p:nvPr/>
          </p:nvGrpSpPr>
          <p:grpSpPr>
            <a:xfrm>
              <a:off x="1676520" y="4267080"/>
              <a:ext cx="1600200" cy="533160"/>
              <a:chOff x="1676520" y="4267080"/>
              <a:chExt cx="1600200" cy="533160"/>
            </a:xfrm>
          </p:grpSpPr>
          <p:sp>
            <p:nvSpPr>
              <p:cNvPr id="172" name=""/>
              <p:cNvSpPr/>
              <p:nvPr/>
            </p:nvSpPr>
            <p:spPr>
              <a:xfrm>
                <a:off x="1676520" y="4267080"/>
                <a:ext cx="152640" cy="5331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124440" y="4267080"/>
                <a:ext cx="152280" cy="533160"/>
              </a:xfrm>
              <a:prstGeom prst="ellipse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752840" y="4267080"/>
                <a:ext cx="144792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752840" y="4800240"/>
                <a:ext cx="144792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1816200" y="4419360"/>
              <a:ext cx="1993680" cy="1170000"/>
              <a:chOff x="1816200" y="4419360"/>
              <a:chExt cx="1993680" cy="117000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1835280" y="4419360"/>
                <a:ext cx="1974600" cy="1106640"/>
                <a:chOff x="1835280" y="4419360"/>
                <a:chExt cx="1974600" cy="11066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835280" y="4419360"/>
                  <a:ext cx="1974600" cy="941400"/>
                </a:xfrm>
                <a:custGeom>
                  <a:avLst/>
                  <a:gdLst/>
                  <a:ahLst/>
                  <a:rect l="l" t="t" r="r" b="b"/>
                  <a:pathLst>
                    <a:path w="1244" h="593">
                      <a:moveTo>
                        <a:pt x="0" y="8"/>
                      </a:moveTo>
                      <a:lnTo>
                        <a:pt x="524" y="8"/>
                      </a:lnTo>
                      <a:lnTo>
                        <a:pt x="926" y="11"/>
                      </a:lnTo>
                      <a:cubicBezTo>
                        <a:pt x="1034" y="14"/>
                        <a:pt x="1121" y="0"/>
                        <a:pt x="1171" y="29"/>
                      </a:cubicBezTo>
                      <a:cubicBezTo>
                        <a:pt x="1221" y="58"/>
                        <a:pt x="1214" y="90"/>
                        <a:pt x="1226" y="184"/>
                      </a:cubicBezTo>
                      <a:lnTo>
                        <a:pt x="1244" y="593"/>
                      </a:lnTo>
                    </a:path>
                  </a:pathLst>
                </a:custGeom>
                <a:noFill/>
                <a:ln w="9360">
                  <a:solidFill>
                    <a:srgbClr val="ff0000"/>
                  </a:solidFill>
                  <a:round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847880" y="4508280"/>
                  <a:ext cx="1886040" cy="941400"/>
                </a:xfrm>
                <a:custGeom>
                  <a:avLst/>
                  <a:gdLst/>
                  <a:ahLst/>
                  <a:rect l="l" t="t" r="r" b="b"/>
                  <a:pathLst>
                    <a:path w="1188" h="593">
                      <a:moveTo>
                        <a:pt x="0" y="4"/>
                      </a:moveTo>
                      <a:lnTo>
                        <a:pt x="468" y="8"/>
                      </a:lnTo>
                      <a:lnTo>
                        <a:pt x="870" y="11"/>
                      </a:lnTo>
                      <a:cubicBezTo>
                        <a:pt x="978" y="14"/>
                        <a:pt x="1065" y="0"/>
                        <a:pt x="1115" y="29"/>
                      </a:cubicBezTo>
                      <a:cubicBezTo>
                        <a:pt x="1165" y="58"/>
                        <a:pt x="1158" y="90"/>
                        <a:pt x="1170" y="184"/>
                      </a:cubicBezTo>
                      <a:lnTo>
                        <a:pt x="1188" y="593"/>
                      </a:lnTo>
                    </a:path>
                  </a:pathLst>
                </a:custGeom>
                <a:noFill/>
                <a:ln w="9360">
                  <a:solidFill>
                    <a:srgbClr val="ff0000"/>
                  </a:solidFill>
                  <a:round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847880" y="4584600"/>
                  <a:ext cx="1809720" cy="941400"/>
                </a:xfrm>
                <a:custGeom>
                  <a:avLst/>
                  <a:gdLst/>
                  <a:ahLst/>
                  <a:rect l="l" t="t" r="r" b="b"/>
                  <a:pathLst>
                    <a:path w="1140" h="593">
                      <a:moveTo>
                        <a:pt x="0" y="4"/>
                      </a:moveTo>
                      <a:lnTo>
                        <a:pt x="420" y="8"/>
                      </a:lnTo>
                      <a:lnTo>
                        <a:pt x="822" y="11"/>
                      </a:lnTo>
                      <a:cubicBezTo>
                        <a:pt x="930" y="14"/>
                        <a:pt x="1017" y="0"/>
                        <a:pt x="1067" y="29"/>
                      </a:cubicBezTo>
                      <a:cubicBezTo>
                        <a:pt x="1117" y="58"/>
                        <a:pt x="1110" y="90"/>
                        <a:pt x="1122" y="184"/>
                      </a:cubicBezTo>
                      <a:lnTo>
                        <a:pt x="1140" y="593"/>
                      </a:lnTo>
                    </a:path>
                  </a:pathLst>
                </a:custGeom>
                <a:noFill/>
                <a:ln w="9360">
                  <a:solidFill>
                    <a:srgbClr val="ff0000"/>
                  </a:solidFill>
                  <a:round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1816200" y="4647960"/>
                <a:ext cx="1765080" cy="941400"/>
              </a:xfrm>
              <a:custGeom>
                <a:avLst/>
                <a:gdLst/>
                <a:ahLst/>
                <a:rect l="l" t="t" r="r" b="b"/>
                <a:pathLst>
                  <a:path w="1112" h="593">
                    <a:moveTo>
                      <a:pt x="0" y="4"/>
                    </a:moveTo>
                    <a:lnTo>
                      <a:pt x="392" y="8"/>
                    </a:lnTo>
                    <a:lnTo>
                      <a:pt x="794" y="11"/>
                    </a:lnTo>
                    <a:cubicBezTo>
                      <a:pt x="902" y="14"/>
                      <a:pt x="989" y="0"/>
                      <a:pt x="1039" y="29"/>
                    </a:cubicBezTo>
                    <a:cubicBezTo>
                      <a:pt x="1089" y="58"/>
                      <a:pt x="1082" y="90"/>
                      <a:pt x="1094" y="184"/>
                    </a:cubicBezTo>
                    <a:lnTo>
                      <a:pt x="1112" y="593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"/>
          <p:cNvGrpSpPr/>
          <p:nvPr/>
        </p:nvGrpSpPr>
        <p:grpSpPr>
          <a:xfrm>
            <a:off x="2209680" y="1447920"/>
            <a:ext cx="1600200" cy="779760"/>
            <a:chOff x="2209680" y="1447920"/>
            <a:chExt cx="1600200" cy="779760"/>
          </a:xfrm>
        </p:grpSpPr>
        <p:grpSp>
          <p:nvGrpSpPr>
            <p:cNvPr id="183" name=""/>
            <p:cNvGrpSpPr/>
            <p:nvPr/>
          </p:nvGrpSpPr>
          <p:grpSpPr>
            <a:xfrm>
              <a:off x="2209680" y="1447920"/>
              <a:ext cx="1600200" cy="533160"/>
              <a:chOff x="2209680" y="1447920"/>
              <a:chExt cx="1600200" cy="533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209680" y="1447920"/>
                <a:ext cx="152640" cy="5331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657600" y="1447920"/>
                <a:ext cx="152280" cy="533160"/>
              </a:xfrm>
              <a:prstGeom prst="ellipse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286000" y="1447920"/>
                <a:ext cx="144792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286000" y="1981080"/>
                <a:ext cx="144792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2438280" y="152388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00"/>
                  </a:solidFill>
                  <a:latin typeface="Comic Sans MS"/>
                </a:rPr>
                <a:t>R=1, L=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676520" y="3276720"/>
            <a:ext cx="2449800" cy="2325600"/>
            <a:chOff x="1676520" y="3276720"/>
            <a:chExt cx="2449800" cy="2325600"/>
          </a:xfrm>
        </p:grpSpPr>
        <p:grpSp>
          <p:nvGrpSpPr>
            <p:cNvPr id="190" name=""/>
            <p:cNvGrpSpPr/>
            <p:nvPr/>
          </p:nvGrpSpPr>
          <p:grpSpPr>
            <a:xfrm>
              <a:off x="1676520" y="4114800"/>
              <a:ext cx="2449800" cy="1487520"/>
              <a:chOff x="1676520" y="4114800"/>
              <a:chExt cx="2449800" cy="148752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1676520" y="4114800"/>
                <a:ext cx="1599480" cy="761760"/>
                <a:chOff x="1676520" y="4114800"/>
                <a:chExt cx="1599480" cy="7617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676520" y="4114800"/>
                  <a:ext cx="152280" cy="761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124080" y="4114800"/>
                  <a:ext cx="151920" cy="761760"/>
                </a:xfrm>
                <a:prstGeom prst="ellipse">
                  <a:avLst/>
                </a:prstGeom>
                <a:noFill/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752480" y="4114800"/>
                  <a:ext cx="144756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752480" y="4876560"/>
                  <a:ext cx="1447560" cy="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1828800" y="4203720"/>
                <a:ext cx="2297520" cy="1398600"/>
                <a:chOff x="1828800" y="4203720"/>
                <a:chExt cx="2297520" cy="1398600"/>
              </a:xfrm>
            </p:grpSpPr>
            <p:grpSp>
              <p:nvGrpSpPr>
                <p:cNvPr id="197" name=""/>
                <p:cNvGrpSpPr/>
                <p:nvPr/>
              </p:nvGrpSpPr>
              <p:grpSpPr>
                <a:xfrm>
                  <a:off x="1828800" y="4203720"/>
                  <a:ext cx="2297520" cy="1170000"/>
                  <a:chOff x="1828800" y="4203720"/>
                  <a:chExt cx="2297520" cy="1170000"/>
                </a:xfrm>
              </p:grpSpPr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1850760" y="4203720"/>
                    <a:ext cx="2275560" cy="1106640"/>
                    <a:chOff x="1850760" y="4203720"/>
                    <a:chExt cx="2275560" cy="110664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1850760" y="4203720"/>
                      <a:ext cx="2275560" cy="9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4" h="593">
                          <a:moveTo>
                            <a:pt x="0" y="8"/>
                          </a:moveTo>
                          <a:lnTo>
                            <a:pt x="524" y="8"/>
                          </a:lnTo>
                          <a:lnTo>
                            <a:pt x="926" y="11"/>
                          </a:lnTo>
                          <a:cubicBezTo>
                            <a:pt x="1034" y="14"/>
                            <a:pt x="1121" y="0"/>
                            <a:pt x="1171" y="29"/>
                          </a:cubicBezTo>
                          <a:cubicBezTo>
                            <a:pt x="1221" y="58"/>
                            <a:pt x="1214" y="90"/>
                            <a:pt x="1226" y="184"/>
                          </a:cubicBezTo>
                          <a:lnTo>
                            <a:pt x="1244" y="593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ff0000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1865160" y="4292640"/>
                      <a:ext cx="2173680" cy="9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8" h="593">
                          <a:moveTo>
                            <a:pt x="0" y="4"/>
                          </a:moveTo>
                          <a:lnTo>
                            <a:pt x="468" y="8"/>
                          </a:lnTo>
                          <a:lnTo>
                            <a:pt x="870" y="11"/>
                          </a:lnTo>
                          <a:cubicBezTo>
                            <a:pt x="978" y="14"/>
                            <a:pt x="1065" y="0"/>
                            <a:pt x="1115" y="29"/>
                          </a:cubicBezTo>
                          <a:cubicBezTo>
                            <a:pt x="1165" y="58"/>
                            <a:pt x="1158" y="90"/>
                            <a:pt x="1170" y="184"/>
                          </a:cubicBezTo>
                          <a:lnTo>
                            <a:pt x="1188" y="593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ff0000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1865160" y="4368960"/>
                      <a:ext cx="2085480" cy="9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0" h="593">
                          <a:moveTo>
                            <a:pt x="0" y="4"/>
                          </a:moveTo>
                          <a:lnTo>
                            <a:pt x="420" y="8"/>
                          </a:lnTo>
                          <a:lnTo>
                            <a:pt x="822" y="11"/>
                          </a:lnTo>
                          <a:cubicBezTo>
                            <a:pt x="930" y="14"/>
                            <a:pt x="1017" y="0"/>
                            <a:pt x="1067" y="29"/>
                          </a:cubicBezTo>
                          <a:cubicBezTo>
                            <a:pt x="1117" y="58"/>
                            <a:pt x="1110" y="90"/>
                            <a:pt x="1122" y="184"/>
                          </a:cubicBezTo>
                          <a:lnTo>
                            <a:pt x="1140" y="593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ff0000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2" name=""/>
                  <p:cNvSpPr/>
                  <p:nvPr/>
                </p:nvSpPr>
                <p:spPr>
                  <a:xfrm>
                    <a:off x="1828800" y="4432320"/>
                    <a:ext cx="2034360" cy="9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2" h="593">
                        <a:moveTo>
                          <a:pt x="0" y="4"/>
                        </a:moveTo>
                        <a:lnTo>
                          <a:pt x="392" y="8"/>
                        </a:lnTo>
                        <a:lnTo>
                          <a:pt x="794" y="11"/>
                        </a:lnTo>
                        <a:cubicBezTo>
                          <a:pt x="902" y="14"/>
                          <a:pt x="989" y="0"/>
                          <a:pt x="1039" y="29"/>
                        </a:cubicBezTo>
                        <a:cubicBezTo>
                          <a:pt x="1089" y="58"/>
                          <a:pt x="1082" y="90"/>
                          <a:pt x="1094" y="184"/>
                        </a:cubicBezTo>
                        <a:lnTo>
                          <a:pt x="1112" y="593"/>
                        </a:lnTo>
                      </a:path>
                    </a:pathLst>
                  </a:custGeom>
                  <a:noFill/>
                  <a:ln w="9360">
                    <a:solidFill>
                      <a:srgbClr val="ff0000"/>
                    </a:solidFill>
                    <a:round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1828800" y="4432320"/>
                  <a:ext cx="1992960" cy="1170000"/>
                  <a:chOff x="1828800" y="4432320"/>
                  <a:chExt cx="1992960" cy="1170000"/>
                </a:xfrm>
              </p:grpSpPr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1847520" y="4432320"/>
                    <a:ext cx="1974240" cy="1106640"/>
                    <a:chOff x="1847520" y="4432320"/>
                    <a:chExt cx="1974240" cy="110664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1847520" y="4432320"/>
                      <a:ext cx="1974240" cy="9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4" h="593">
                          <a:moveTo>
                            <a:pt x="0" y="8"/>
                          </a:moveTo>
                          <a:lnTo>
                            <a:pt x="524" y="8"/>
                          </a:lnTo>
                          <a:lnTo>
                            <a:pt x="926" y="11"/>
                          </a:lnTo>
                          <a:cubicBezTo>
                            <a:pt x="1034" y="14"/>
                            <a:pt x="1121" y="0"/>
                            <a:pt x="1171" y="29"/>
                          </a:cubicBezTo>
                          <a:cubicBezTo>
                            <a:pt x="1221" y="58"/>
                            <a:pt x="1214" y="90"/>
                            <a:pt x="1226" y="184"/>
                          </a:cubicBezTo>
                          <a:lnTo>
                            <a:pt x="1244" y="593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ff0000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1859760" y="4521240"/>
                      <a:ext cx="1885680" cy="9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8" h="593">
                          <a:moveTo>
                            <a:pt x="0" y="4"/>
                          </a:moveTo>
                          <a:lnTo>
                            <a:pt x="468" y="8"/>
                          </a:lnTo>
                          <a:lnTo>
                            <a:pt x="870" y="11"/>
                          </a:lnTo>
                          <a:cubicBezTo>
                            <a:pt x="978" y="14"/>
                            <a:pt x="1065" y="0"/>
                            <a:pt x="1115" y="29"/>
                          </a:cubicBezTo>
                          <a:cubicBezTo>
                            <a:pt x="1165" y="58"/>
                            <a:pt x="1158" y="90"/>
                            <a:pt x="1170" y="184"/>
                          </a:cubicBezTo>
                          <a:lnTo>
                            <a:pt x="1188" y="593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ff0000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1859760" y="4597560"/>
                      <a:ext cx="1809360" cy="9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0" h="593">
                          <a:moveTo>
                            <a:pt x="0" y="4"/>
                          </a:moveTo>
                          <a:lnTo>
                            <a:pt x="420" y="8"/>
                          </a:lnTo>
                          <a:lnTo>
                            <a:pt x="822" y="11"/>
                          </a:lnTo>
                          <a:cubicBezTo>
                            <a:pt x="930" y="14"/>
                            <a:pt x="1017" y="0"/>
                            <a:pt x="1067" y="29"/>
                          </a:cubicBezTo>
                          <a:cubicBezTo>
                            <a:pt x="1117" y="58"/>
                            <a:pt x="1110" y="90"/>
                            <a:pt x="1122" y="184"/>
                          </a:cubicBezTo>
                          <a:lnTo>
                            <a:pt x="1140" y="593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ff0000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8" name=""/>
                  <p:cNvSpPr/>
                  <p:nvPr/>
                </p:nvSpPr>
                <p:spPr>
                  <a:xfrm>
                    <a:off x="1828800" y="4660920"/>
                    <a:ext cx="1764720" cy="9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2" h="593">
                        <a:moveTo>
                          <a:pt x="0" y="4"/>
                        </a:moveTo>
                        <a:lnTo>
                          <a:pt x="392" y="8"/>
                        </a:lnTo>
                        <a:lnTo>
                          <a:pt x="794" y="11"/>
                        </a:lnTo>
                        <a:cubicBezTo>
                          <a:pt x="902" y="14"/>
                          <a:pt x="989" y="0"/>
                          <a:pt x="1039" y="29"/>
                        </a:cubicBezTo>
                        <a:cubicBezTo>
                          <a:pt x="1089" y="58"/>
                          <a:pt x="1082" y="90"/>
                          <a:pt x="1094" y="184"/>
                        </a:cubicBezTo>
                        <a:lnTo>
                          <a:pt x="1112" y="593"/>
                        </a:lnTo>
                      </a:path>
                    </a:pathLst>
                  </a:custGeom>
                  <a:noFill/>
                  <a:ln w="9360">
                    <a:solidFill>
                      <a:srgbClr val="ff0000"/>
                    </a:solidFill>
                    <a:round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09" name=""/>
            <p:cNvSpPr/>
            <p:nvPr/>
          </p:nvSpPr>
          <p:spPr>
            <a:xfrm>
              <a:off x="1752480" y="327672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00"/>
                  </a:solidFill>
                  <a:latin typeface="Comic Sans MS"/>
                </a:rPr>
                <a:t>R=1.5, L=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600200" y="838080"/>
            <a:ext cx="7162920" cy="4674600"/>
            <a:chOff x="1600200" y="838080"/>
            <a:chExt cx="7162920" cy="4674600"/>
          </a:xfrm>
        </p:grpSpPr>
        <p:grpSp>
          <p:nvGrpSpPr>
            <p:cNvPr id="211" name=""/>
            <p:cNvGrpSpPr/>
            <p:nvPr/>
          </p:nvGrpSpPr>
          <p:grpSpPr>
            <a:xfrm>
              <a:off x="1600200" y="2971800"/>
              <a:ext cx="4930560" cy="2540880"/>
              <a:chOff x="1600200" y="2971800"/>
              <a:chExt cx="4930560" cy="254088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1600200" y="4191120"/>
                <a:ext cx="4930560" cy="1321560"/>
                <a:chOff x="1600200" y="4191120"/>
                <a:chExt cx="4930560" cy="132156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1600200" y="4191120"/>
                  <a:ext cx="3275280" cy="533160"/>
                  <a:chOff x="1600200" y="4191120"/>
                  <a:chExt cx="3275280" cy="53316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1600200" y="4191120"/>
                    <a:ext cx="312480" cy="5331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4564080" y="4191120"/>
                    <a:ext cx="311400" cy="533160"/>
                  </a:xfrm>
                  <a:prstGeom prst="ellipse">
                    <a:avLst/>
                  </a:prstGeom>
                  <a:noFill/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1756440" y="4191120"/>
                    <a:ext cx="2963880" cy="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1756440" y="4724280"/>
                    <a:ext cx="2963880" cy="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1828800" y="4432320"/>
                  <a:ext cx="4701960" cy="1080360"/>
                  <a:chOff x="1828800" y="4432320"/>
                  <a:chExt cx="4701960" cy="108036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1906560" y="4432320"/>
                    <a:ext cx="4624200" cy="9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88" h="593">
                        <a:moveTo>
                          <a:pt x="0" y="4"/>
                        </a:moveTo>
                        <a:lnTo>
                          <a:pt x="468" y="8"/>
                        </a:lnTo>
                        <a:lnTo>
                          <a:pt x="870" y="11"/>
                        </a:lnTo>
                        <a:cubicBezTo>
                          <a:pt x="978" y="14"/>
                          <a:pt x="1065" y="0"/>
                          <a:pt x="1115" y="29"/>
                        </a:cubicBezTo>
                        <a:cubicBezTo>
                          <a:pt x="1165" y="58"/>
                          <a:pt x="1158" y="90"/>
                          <a:pt x="1170" y="184"/>
                        </a:cubicBezTo>
                        <a:lnTo>
                          <a:pt x="1188" y="593"/>
                        </a:lnTo>
                      </a:path>
                    </a:pathLst>
                  </a:custGeom>
                  <a:noFill/>
                  <a:ln w="9360">
                    <a:solidFill>
                      <a:srgbClr val="ff0000"/>
                    </a:solidFill>
                    <a:round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1828800" y="4571640"/>
                    <a:ext cx="4329000" cy="9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2" h="593">
                        <a:moveTo>
                          <a:pt x="0" y="4"/>
                        </a:moveTo>
                        <a:lnTo>
                          <a:pt x="392" y="8"/>
                        </a:lnTo>
                        <a:lnTo>
                          <a:pt x="794" y="11"/>
                        </a:lnTo>
                        <a:cubicBezTo>
                          <a:pt x="902" y="14"/>
                          <a:pt x="989" y="0"/>
                          <a:pt x="1039" y="29"/>
                        </a:cubicBezTo>
                        <a:cubicBezTo>
                          <a:pt x="1089" y="58"/>
                          <a:pt x="1082" y="90"/>
                          <a:pt x="1094" y="184"/>
                        </a:cubicBezTo>
                        <a:lnTo>
                          <a:pt x="1112" y="593"/>
                        </a:lnTo>
                      </a:path>
                    </a:pathLst>
                  </a:custGeom>
                  <a:noFill/>
                  <a:ln w="9360">
                    <a:solidFill>
                      <a:srgbClr val="ff0000"/>
                    </a:solidFill>
                    <a:round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1" name=""/>
              <p:cNvSpPr/>
              <p:nvPr/>
            </p:nvSpPr>
            <p:spPr>
              <a:xfrm>
                <a:off x="2361960" y="2971800"/>
                <a:ext cx="15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ffff00"/>
                    </a:solidFill>
                    <a:latin typeface="Comic Sans MS"/>
                  </a:rPr>
                  <a:t>R=1, L=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4495680" y="838080"/>
              <a:ext cx="426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00"/>
                  </a:solidFill>
                  <a:latin typeface="Comic Sans MS"/>
                </a:rPr>
                <a:t>Il flusso è inversamente proporzionale alla lunghezz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676520" y="838080"/>
            <a:ext cx="6858000" cy="4523040"/>
            <a:chOff x="1676520" y="838080"/>
            <a:chExt cx="6858000" cy="4523040"/>
          </a:xfrm>
        </p:grpSpPr>
        <p:grpSp>
          <p:nvGrpSpPr>
            <p:cNvPr id="224" name=""/>
            <p:cNvGrpSpPr/>
            <p:nvPr/>
          </p:nvGrpSpPr>
          <p:grpSpPr>
            <a:xfrm>
              <a:off x="1676520" y="3657600"/>
              <a:ext cx="2038320" cy="1703520"/>
              <a:chOff x="1676520" y="3657600"/>
              <a:chExt cx="2038320" cy="170352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1676520" y="4343400"/>
                <a:ext cx="2038320" cy="1017720"/>
                <a:chOff x="1676520" y="4343400"/>
                <a:chExt cx="2038320" cy="101772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1676520" y="4343400"/>
                  <a:ext cx="1600200" cy="228600"/>
                  <a:chOff x="1676520" y="4343400"/>
                  <a:chExt cx="1600200" cy="2286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1676520" y="4343400"/>
                    <a:ext cx="152640" cy="22860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3124440" y="4343400"/>
                    <a:ext cx="152280" cy="228600"/>
                  </a:xfrm>
                  <a:prstGeom prst="ellipse">
                    <a:avLst/>
                  </a:prstGeom>
                  <a:noFill/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1752840" y="4343400"/>
                    <a:ext cx="1447920" cy="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1752840" y="4572000"/>
                    <a:ext cx="1447920" cy="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1" name=""/>
                <p:cNvSpPr/>
                <p:nvPr/>
              </p:nvSpPr>
              <p:spPr>
                <a:xfrm>
                  <a:off x="1829160" y="4419720"/>
                  <a:ext cx="1885680" cy="941400"/>
                </a:xfrm>
                <a:custGeom>
                  <a:avLst/>
                  <a:gdLst/>
                  <a:ahLst/>
                  <a:rect l="l" t="t" r="r" b="b"/>
                  <a:pathLst>
                    <a:path w="1188" h="593">
                      <a:moveTo>
                        <a:pt x="0" y="4"/>
                      </a:moveTo>
                      <a:lnTo>
                        <a:pt x="468" y="8"/>
                      </a:lnTo>
                      <a:lnTo>
                        <a:pt x="870" y="11"/>
                      </a:lnTo>
                      <a:cubicBezTo>
                        <a:pt x="978" y="14"/>
                        <a:pt x="1065" y="0"/>
                        <a:pt x="1115" y="29"/>
                      </a:cubicBezTo>
                      <a:cubicBezTo>
                        <a:pt x="1165" y="58"/>
                        <a:pt x="1158" y="90"/>
                        <a:pt x="1170" y="184"/>
                      </a:cubicBezTo>
                      <a:lnTo>
                        <a:pt x="1188" y="593"/>
                      </a:lnTo>
                    </a:path>
                  </a:pathLst>
                </a:custGeom>
                <a:noFill/>
                <a:ln w="9360">
                  <a:solidFill>
                    <a:srgbClr val="ff0000"/>
                  </a:solidFill>
                  <a:round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1752840" y="3657600"/>
                <a:ext cx="152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ffff00"/>
                    </a:solidFill>
                    <a:latin typeface="Comic Sans MS"/>
                  </a:rPr>
                  <a:t>R=.5, L=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4267080" y="838080"/>
              <a:ext cx="4267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00"/>
                  </a:solidFill>
                  <a:latin typeface="Comic Sans MS"/>
                </a:rPr>
                <a:t>Il flusso è direttamente proporzionale al raggio alla quar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309600" y="450720"/>
          <a:ext cx="8580240" cy="5232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600" y="450720"/>
                    <a:ext cx="8580240" cy="52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295280" y="1600200"/>
            <a:ext cx="5486400" cy="10666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2133720"/>
            <a:ext cx="51055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295280" y="1981080"/>
            <a:ext cx="4876920" cy="304920"/>
            <a:chOff x="1295280" y="1981080"/>
            <a:chExt cx="4876920" cy="304920"/>
          </a:xfrm>
        </p:grpSpPr>
        <p:sp>
          <p:nvSpPr>
            <p:cNvPr id="239" name=""/>
            <p:cNvSpPr/>
            <p:nvPr/>
          </p:nvSpPr>
          <p:spPr>
            <a:xfrm>
              <a:off x="1295280" y="2286000"/>
              <a:ext cx="4876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95280" y="1981080"/>
              <a:ext cx="4876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295280" y="1828800"/>
            <a:ext cx="4419720" cy="609480"/>
            <a:chOff x="1295280" y="1828800"/>
            <a:chExt cx="4419720" cy="609480"/>
          </a:xfrm>
        </p:grpSpPr>
        <p:sp>
          <p:nvSpPr>
            <p:cNvPr id="242" name=""/>
            <p:cNvSpPr/>
            <p:nvPr/>
          </p:nvSpPr>
          <p:spPr>
            <a:xfrm>
              <a:off x="1295280" y="2438280"/>
              <a:ext cx="4419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95280" y="1828800"/>
              <a:ext cx="4419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295280" y="1676520"/>
            <a:ext cx="3581640" cy="914400"/>
            <a:chOff x="1295280" y="1676520"/>
            <a:chExt cx="3581640" cy="914400"/>
          </a:xfrm>
        </p:grpSpPr>
        <p:sp>
          <p:nvSpPr>
            <p:cNvPr id="245" name=""/>
            <p:cNvSpPr/>
            <p:nvPr/>
          </p:nvSpPr>
          <p:spPr>
            <a:xfrm>
              <a:off x="1295280" y="2590920"/>
              <a:ext cx="3581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95280" y="1676520"/>
              <a:ext cx="3581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4724280" y="1600200"/>
            <a:ext cx="1764000" cy="1066680"/>
          </a:xfrm>
          <a:custGeom>
            <a:avLst/>
            <a:gdLst/>
            <a:ahLst/>
            <a:rect l="l" t="t" r="r" b="b"/>
            <a:pathLst>
              <a:path w="1111" h="672">
                <a:moveTo>
                  <a:pt x="0" y="0"/>
                </a:moveTo>
                <a:cubicBezTo>
                  <a:pt x="27" y="5"/>
                  <a:pt x="50" y="7"/>
                  <a:pt x="164" y="28"/>
                </a:cubicBezTo>
                <a:cubicBezTo>
                  <a:pt x="278" y="49"/>
                  <a:pt x="549" y="93"/>
                  <a:pt x="684" y="128"/>
                </a:cubicBezTo>
                <a:cubicBezTo>
                  <a:pt x="819" y="163"/>
                  <a:pt x="912" y="197"/>
                  <a:pt x="976" y="236"/>
                </a:cubicBezTo>
                <a:cubicBezTo>
                  <a:pt x="1040" y="275"/>
                  <a:pt x="1111" y="310"/>
                  <a:pt x="1068" y="360"/>
                </a:cubicBezTo>
                <a:cubicBezTo>
                  <a:pt x="1025" y="410"/>
                  <a:pt x="850" y="491"/>
                  <a:pt x="720" y="536"/>
                </a:cubicBezTo>
                <a:cubicBezTo>
                  <a:pt x="590" y="581"/>
                  <a:pt x="408" y="609"/>
                  <a:pt x="288" y="632"/>
                </a:cubicBezTo>
                <a:cubicBezTo>
                  <a:pt x="168" y="655"/>
                  <a:pt x="60" y="664"/>
                  <a:pt x="0" y="67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304920"/>
            <a:ext cx="609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lusso laminare: filetti di corrente paralleli; profilo delle velocità parabo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4419720"/>
            <a:ext cx="5486400" cy="10666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447920" y="4495680"/>
            <a:ext cx="5443560" cy="914040"/>
            <a:chOff x="1447920" y="4495680"/>
            <a:chExt cx="5443560" cy="914040"/>
          </a:xfrm>
        </p:grpSpPr>
        <p:grpSp>
          <p:nvGrpSpPr>
            <p:cNvPr id="251" name=""/>
            <p:cNvGrpSpPr/>
            <p:nvPr/>
          </p:nvGrpSpPr>
          <p:grpSpPr>
            <a:xfrm>
              <a:off x="1447920" y="4495680"/>
              <a:ext cx="5443560" cy="152280"/>
              <a:chOff x="1447920" y="4495680"/>
              <a:chExt cx="5443560" cy="152280"/>
            </a:xfrm>
          </p:grpSpPr>
          <p:sp>
            <p:nvSpPr>
              <p:cNvPr id="252" name=""/>
              <p:cNvSpPr/>
              <p:nvPr/>
            </p:nvSpPr>
            <p:spPr>
              <a:xfrm>
                <a:off x="1447920" y="4495680"/>
                <a:ext cx="56664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133720" y="4495680"/>
                <a:ext cx="56664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743200" y="4495680"/>
                <a:ext cx="56664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276720" y="4495680"/>
                <a:ext cx="56664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886200" y="4495680"/>
                <a:ext cx="56664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495680" y="4495680"/>
                <a:ext cx="56700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81480" y="4495680"/>
                <a:ext cx="56700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791320" y="4495680"/>
                <a:ext cx="56664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324480" y="4495680"/>
                <a:ext cx="56700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1447920" y="5257440"/>
              <a:ext cx="5443560" cy="152280"/>
              <a:chOff x="1447920" y="5257440"/>
              <a:chExt cx="5443560" cy="152280"/>
            </a:xfrm>
          </p:grpSpPr>
          <p:sp>
            <p:nvSpPr>
              <p:cNvPr id="262" name=""/>
              <p:cNvSpPr/>
              <p:nvPr/>
            </p:nvSpPr>
            <p:spPr>
              <a:xfrm flipV="1">
                <a:off x="1447920" y="5257080"/>
                <a:ext cx="56664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2133720" y="5257080"/>
                <a:ext cx="56664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2743200" y="5257080"/>
                <a:ext cx="56664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3276720" y="5257080"/>
                <a:ext cx="56664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3886200" y="5257080"/>
                <a:ext cx="56664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4495680" y="5257080"/>
                <a:ext cx="56700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181480" y="5257080"/>
                <a:ext cx="56700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5791320" y="5257080"/>
                <a:ext cx="56664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6324480" y="5257080"/>
                <a:ext cx="56700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1447920" y="5028840"/>
              <a:ext cx="5443560" cy="152280"/>
              <a:chOff x="1447920" y="5028840"/>
              <a:chExt cx="5443560" cy="15228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1447920" y="5028480"/>
                <a:ext cx="56664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2133720" y="5028480"/>
                <a:ext cx="56664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2743200" y="5028480"/>
                <a:ext cx="56664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3276720" y="5028480"/>
                <a:ext cx="56664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3886200" y="5028480"/>
                <a:ext cx="56664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4495680" y="5028480"/>
                <a:ext cx="56700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5181480" y="5028480"/>
                <a:ext cx="56700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5791320" y="5028480"/>
                <a:ext cx="56664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6324480" y="5028480"/>
                <a:ext cx="56700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1447920" y="4724280"/>
              <a:ext cx="5443560" cy="152280"/>
              <a:chOff x="1447920" y="4724280"/>
              <a:chExt cx="5443560" cy="152280"/>
            </a:xfrm>
          </p:grpSpPr>
          <p:sp>
            <p:nvSpPr>
              <p:cNvPr id="282" name=""/>
              <p:cNvSpPr/>
              <p:nvPr/>
            </p:nvSpPr>
            <p:spPr>
              <a:xfrm>
                <a:off x="1447920" y="4724280"/>
                <a:ext cx="56664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133720" y="4724280"/>
                <a:ext cx="56664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43200" y="4724280"/>
                <a:ext cx="56664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76720" y="4724280"/>
                <a:ext cx="56664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886200" y="4724280"/>
                <a:ext cx="56664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495680" y="4724280"/>
                <a:ext cx="56700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181480" y="4724280"/>
                <a:ext cx="56700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791320" y="4724280"/>
                <a:ext cx="56664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324480" y="4724280"/>
                <a:ext cx="567000" cy="152280"/>
              </a:xfrm>
              <a:custGeom>
                <a:avLst/>
                <a:gdLst/>
                <a:ahLst/>
                <a:rect l="l" t="t" r="r" b="b"/>
                <a:pathLst>
                  <a:path w="595" h="388">
                    <a:moveTo>
                      <a:pt x="0" y="364"/>
                    </a:moveTo>
                    <a:cubicBezTo>
                      <a:pt x="83" y="343"/>
                      <a:pt x="175" y="360"/>
                      <a:pt x="261" y="364"/>
                    </a:cubicBezTo>
                    <a:cubicBezTo>
                      <a:pt x="332" y="388"/>
                      <a:pt x="412" y="368"/>
                      <a:pt x="486" y="361"/>
                    </a:cubicBezTo>
                    <a:cubicBezTo>
                      <a:pt x="503" y="355"/>
                      <a:pt x="518" y="351"/>
                      <a:pt x="534" y="343"/>
                    </a:cubicBezTo>
                    <a:cubicBezTo>
                      <a:pt x="568" y="297"/>
                      <a:pt x="584" y="251"/>
                      <a:pt x="594" y="193"/>
                    </a:cubicBezTo>
                    <a:cubicBezTo>
                      <a:pt x="593" y="163"/>
                      <a:pt x="595" y="133"/>
                      <a:pt x="591" y="103"/>
                    </a:cubicBezTo>
                    <a:cubicBezTo>
                      <a:pt x="589" y="86"/>
                      <a:pt x="579" y="87"/>
                      <a:pt x="570" y="79"/>
                    </a:cubicBezTo>
                    <a:cubicBezTo>
                      <a:pt x="537" y="50"/>
                      <a:pt x="521" y="30"/>
                      <a:pt x="474" y="22"/>
                    </a:cubicBezTo>
                    <a:cubicBezTo>
                      <a:pt x="430" y="0"/>
                      <a:pt x="440" y="7"/>
                      <a:pt x="366" y="4"/>
                    </a:cubicBezTo>
                    <a:cubicBezTo>
                      <a:pt x="318" y="5"/>
                      <a:pt x="270" y="3"/>
                      <a:pt x="222" y="7"/>
                    </a:cubicBezTo>
                    <a:cubicBezTo>
                      <a:pt x="215" y="8"/>
                      <a:pt x="192" y="29"/>
                      <a:pt x="186" y="37"/>
                    </a:cubicBezTo>
                    <a:cubicBezTo>
                      <a:pt x="182" y="43"/>
                      <a:pt x="174" y="55"/>
                      <a:pt x="174" y="55"/>
                    </a:cubicBezTo>
                    <a:cubicBezTo>
                      <a:pt x="162" y="105"/>
                      <a:pt x="190" y="145"/>
                      <a:pt x="228" y="172"/>
                    </a:cubicBezTo>
                    <a:cubicBezTo>
                      <a:pt x="245" y="184"/>
                      <a:pt x="249" y="185"/>
                      <a:pt x="267" y="190"/>
                    </a:cubicBezTo>
                    <a:cubicBezTo>
                      <a:pt x="273" y="192"/>
                      <a:pt x="285" y="196"/>
                      <a:pt x="285" y="196"/>
                    </a:cubicBezTo>
                    <a:cubicBezTo>
                      <a:pt x="348" y="193"/>
                      <a:pt x="331" y="179"/>
                      <a:pt x="351" y="199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"/>
          <p:cNvSpPr/>
          <p:nvPr/>
        </p:nvSpPr>
        <p:spPr>
          <a:xfrm>
            <a:off x="1066680" y="3352680"/>
            <a:ext cx="609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lusso turbolento: filetti di corrente disordinati; nessun profilo delle veloc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86600" y="175248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Q=(P1-P0)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/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010280" y="4495680"/>
            <a:ext cx="16765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Q=(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-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/R*kV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2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9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6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309600" y="549360"/>
          <a:ext cx="8426520" cy="5683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600" y="549360"/>
                    <a:ext cx="8426520" cy="56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1139760" y="225360"/>
          <a:ext cx="7020000" cy="648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9760" y="225360"/>
                    <a:ext cx="7020000" cy="64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1:55:44Z</dcterms:created>
  <dc:creator>Antonio Cevese</dc:creator>
  <dc:description/>
  <dc:language>en-US</dc:language>
  <cp:lastModifiedBy>Antonio Cevese</cp:lastModifiedBy>
  <dcterms:modified xsi:type="dcterms:W3CDTF">2008-12-16T12:44:53Z</dcterms:modified>
  <cp:revision>3</cp:revision>
  <dc:subject/>
  <dc:title>principi di emodinamica; regolazione delle resistenze periferiche</dc:title>
</cp:coreProperties>
</file>