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397-2335-48D5-8B23-872F28A2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1E7-7C6E-472A-A1C3-C0870493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04D-60F8-4222-8766-488E018B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E67-4E19-4CB1-A37F-946655B5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271-2C0A-46F9-8EEE-D5F540EF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152-2C35-4796-9865-1240A7CE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0CC-4BBA-49C2-85E7-C34DC57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BF2-AB15-44F5-B0AE-E1E5BD7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BA0-86D6-4C12-B958-FB6B4A2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EED-3268-403B-85F0-EA6E61A9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4CB-7C43-41B3-A298-C5337A9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66D-9E8A-4157-A87C-6C9ACFB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FC20-3AF0-4F4B-9100-09EC71888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604800"/>
          <a:ext cx="81756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4800"/>
                    <a:ext cx="81756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76200" y="309600"/>
          <a:ext cx="84582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09600"/>
                    <a:ext cx="84582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2760" y="5775480"/>
            <a:ext cx="1570680" cy="703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VOLUME VASCOL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VARIAZIONI D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CAPACITANZ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TRESS-RELAX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65360" y="5241960"/>
            <a:ext cx="919440" cy="398520"/>
            <a:chOff x="1665360" y="5241960"/>
            <a:chExt cx="919440" cy="398520"/>
          </a:xfrm>
        </p:grpSpPr>
        <p:sp>
          <p:nvSpPr>
            <p:cNvPr id="140" name=""/>
            <p:cNvSpPr/>
            <p:nvPr/>
          </p:nvSpPr>
          <p:spPr>
            <a:xfrm>
              <a:off x="1667880" y="5241960"/>
              <a:ext cx="91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RESS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APILL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5360" y="5241960"/>
              <a:ext cx="914040" cy="3808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732120" y="4692600"/>
            <a:ext cx="762120" cy="571680"/>
            <a:chOff x="3732120" y="4692600"/>
            <a:chExt cx="762120" cy="571680"/>
          </a:xfrm>
        </p:grpSpPr>
        <p:sp>
          <p:nvSpPr>
            <p:cNvPr id="143" name=""/>
            <p:cNvSpPr/>
            <p:nvPr/>
          </p:nvSpPr>
          <p:spPr>
            <a:xfrm>
              <a:off x="3734640" y="4692600"/>
              <a:ext cx="727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ERDI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ENA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DI  N</a:t>
              </a:r>
              <a:r>
                <a:rPr b="0" lang="en-US" sz="1000" spc="-1" strike="noStrike" baseline="-25000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2120" y="4692600"/>
              <a:ext cx="762120" cy="53316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829640" y="5241960"/>
            <a:ext cx="837720" cy="533520"/>
            <a:chOff x="7829640" y="5241960"/>
            <a:chExt cx="837720" cy="533520"/>
          </a:xfrm>
        </p:grpSpPr>
        <p:sp>
          <p:nvSpPr>
            <p:cNvPr id="146" name=""/>
            <p:cNvSpPr/>
            <p:nvPr/>
          </p:nvSpPr>
          <p:spPr>
            <a:xfrm>
              <a:off x="7832880" y="531828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GETT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ARDIA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29640" y="5241960"/>
              <a:ext cx="837720" cy="5335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65360" y="4719600"/>
            <a:ext cx="1185840" cy="398520"/>
            <a:chOff x="1665360" y="4719600"/>
            <a:chExt cx="1185840" cy="398520"/>
          </a:xfrm>
        </p:grpSpPr>
        <p:sp>
          <p:nvSpPr>
            <p:cNvPr id="149" name=""/>
            <p:cNvSpPr/>
            <p:nvPr/>
          </p:nvSpPr>
          <p:spPr>
            <a:xfrm>
              <a:off x="1684080" y="4719600"/>
              <a:ext cx="1163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ECREZIONE 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ALDOSTER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65360" y="4719600"/>
              <a:ext cx="118584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17840" y="3951360"/>
            <a:ext cx="1148040" cy="398520"/>
            <a:chOff x="3417840" y="3951360"/>
            <a:chExt cx="1148040" cy="398520"/>
          </a:xfrm>
        </p:grpSpPr>
        <p:sp>
          <p:nvSpPr>
            <p:cNvPr id="152" name=""/>
            <p:cNvSpPr/>
            <p:nvPr/>
          </p:nvSpPr>
          <p:spPr>
            <a:xfrm>
              <a:off x="3420360" y="3951360"/>
              <a:ext cx="114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INTRODU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DI LIQUI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7840" y="3951360"/>
              <a:ext cx="1143000" cy="3808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800360" y="3814920"/>
            <a:ext cx="1005120" cy="550800"/>
            <a:chOff x="1800360" y="3814920"/>
            <a:chExt cx="1005120" cy="550800"/>
          </a:xfrm>
        </p:grpSpPr>
        <p:sp>
          <p:nvSpPr>
            <p:cNvPr id="155" name=""/>
            <p:cNvSpPr/>
            <p:nvPr/>
          </p:nvSpPr>
          <p:spPr>
            <a:xfrm>
              <a:off x="1803240" y="3814920"/>
              <a:ext cx="1002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ECRE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DI  A D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E SE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00360" y="3814920"/>
              <a:ext cx="990360" cy="53316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95360" y="2835360"/>
            <a:ext cx="914400" cy="550800"/>
            <a:chOff x="2295360" y="2835360"/>
            <a:chExt cx="914400" cy="550800"/>
          </a:xfrm>
        </p:grpSpPr>
        <p:sp>
          <p:nvSpPr>
            <p:cNvPr id="158" name=""/>
            <p:cNvSpPr/>
            <p:nvPr/>
          </p:nvSpPr>
          <p:spPr>
            <a:xfrm>
              <a:off x="2298240" y="2835360"/>
              <a:ext cx="84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ERDI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ENALE 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LIQUI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95360" y="2835360"/>
              <a:ext cx="914400" cy="5335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600360" y="2759040"/>
            <a:ext cx="1371600" cy="685800"/>
            <a:chOff x="3600360" y="2759040"/>
            <a:chExt cx="1371600" cy="685800"/>
          </a:xfrm>
        </p:grpSpPr>
        <p:sp>
          <p:nvSpPr>
            <p:cNvPr id="161" name=""/>
            <p:cNvSpPr/>
            <p:nvPr/>
          </p:nvSpPr>
          <p:spPr>
            <a:xfrm>
              <a:off x="3603960" y="2835360"/>
              <a:ext cx="1337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VOLUME 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LIQUI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EXTRACELLUL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0360" y="2759040"/>
              <a:ext cx="1371600" cy="6858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148360" y="2774880"/>
            <a:ext cx="878040" cy="533160"/>
            <a:chOff x="5148360" y="2774880"/>
            <a:chExt cx="878040" cy="533160"/>
          </a:xfrm>
        </p:grpSpPr>
        <p:sp>
          <p:nvSpPr>
            <p:cNvPr id="164" name=""/>
            <p:cNvSpPr/>
            <p:nvPr/>
          </p:nvSpPr>
          <p:spPr>
            <a:xfrm>
              <a:off x="5150880" y="2850840"/>
              <a:ext cx="87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VOLUME 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ANG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2774880"/>
              <a:ext cx="838080" cy="53316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216480" y="2682720"/>
            <a:ext cx="1514520" cy="627120"/>
            <a:chOff x="6216480" y="2682720"/>
            <a:chExt cx="1514520" cy="627120"/>
          </a:xfrm>
        </p:grpSpPr>
        <p:sp>
          <p:nvSpPr>
            <p:cNvPr id="167" name=""/>
            <p:cNvSpPr/>
            <p:nvPr/>
          </p:nvSpPr>
          <p:spPr>
            <a:xfrm>
              <a:off x="6220440" y="2759040"/>
              <a:ext cx="1506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RESSIONE 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IEMPIMENTO DEL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IRCOL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16480" y="2682720"/>
              <a:ext cx="1514520" cy="6098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991640" y="2790720"/>
            <a:ext cx="76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RITO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VENO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89840" y="2790720"/>
            <a:ext cx="762120" cy="39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89040" y="2133720"/>
            <a:ext cx="1143000" cy="533160"/>
            <a:chOff x="1589040" y="2133720"/>
            <a:chExt cx="1143000" cy="533160"/>
          </a:xfrm>
        </p:grpSpPr>
        <p:sp>
          <p:nvSpPr>
            <p:cNvPr id="172" name=""/>
            <p:cNvSpPr/>
            <p:nvPr/>
          </p:nvSpPr>
          <p:spPr>
            <a:xfrm>
              <a:off x="1591200" y="2209680"/>
              <a:ext cx="112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TIMOL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BAROCETTO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89040" y="2133720"/>
              <a:ext cx="1143000" cy="53316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417840" y="365040"/>
            <a:ext cx="1239840" cy="419400"/>
            <a:chOff x="3417840" y="365040"/>
            <a:chExt cx="1239840" cy="419400"/>
          </a:xfrm>
        </p:grpSpPr>
        <p:sp>
          <p:nvSpPr>
            <p:cNvPr id="175" name=""/>
            <p:cNvSpPr/>
            <p:nvPr/>
          </p:nvSpPr>
          <p:spPr>
            <a:xfrm>
              <a:off x="3421080" y="365040"/>
              <a:ext cx="1207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0" lang="en-US" sz="1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HEMOCETTO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7840" y="365040"/>
              <a:ext cx="123984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708520" y="380880"/>
            <a:ext cx="1219320" cy="550800"/>
            <a:chOff x="5708520" y="380880"/>
            <a:chExt cx="1219320" cy="550800"/>
          </a:xfrm>
        </p:grpSpPr>
        <p:sp>
          <p:nvSpPr>
            <p:cNvPr id="178" name=""/>
            <p:cNvSpPr/>
            <p:nvPr/>
          </p:nvSpPr>
          <p:spPr>
            <a:xfrm>
              <a:off x="5708520" y="380880"/>
              <a:ext cx="12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ENINA E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ANGIOTENSIN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08520" y="380880"/>
              <a:ext cx="1219320" cy="3812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947000" y="380880"/>
            <a:ext cx="1036800" cy="611280"/>
            <a:chOff x="7947000" y="380880"/>
            <a:chExt cx="1036800" cy="611280"/>
          </a:xfrm>
        </p:grpSpPr>
        <p:sp>
          <p:nvSpPr>
            <p:cNvPr id="181" name=""/>
            <p:cNvSpPr/>
            <p:nvPr/>
          </p:nvSpPr>
          <p:spPr>
            <a:xfrm>
              <a:off x="7950600" y="441360"/>
              <a:ext cx="10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ESISTEN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ERIFERI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TOTAL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47000" y="380880"/>
              <a:ext cx="1036800" cy="6094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65760" y="1812960"/>
            <a:ext cx="1162080" cy="398520"/>
            <a:chOff x="5765760" y="1812960"/>
            <a:chExt cx="1162080" cy="398520"/>
          </a:xfrm>
        </p:grpSpPr>
        <p:sp>
          <p:nvSpPr>
            <p:cNvPr id="184" name=""/>
            <p:cNvSpPr/>
            <p:nvPr/>
          </p:nvSpPr>
          <p:spPr>
            <a:xfrm>
              <a:off x="5767920" y="1812960"/>
              <a:ext cx="115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TIMOLAZION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IMPA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65760" y="1812960"/>
              <a:ext cx="116208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32640" y="1889280"/>
            <a:ext cx="1451160" cy="246240"/>
            <a:chOff x="7532640" y="1889280"/>
            <a:chExt cx="1451160" cy="246240"/>
          </a:xfrm>
        </p:grpSpPr>
        <p:sp>
          <p:nvSpPr>
            <p:cNvPr id="187" name=""/>
            <p:cNvSpPr/>
            <p:nvPr/>
          </p:nvSpPr>
          <p:spPr>
            <a:xfrm>
              <a:off x="7534440" y="1889280"/>
              <a:ext cx="144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AUTOREGOLAZI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32640" y="1889280"/>
              <a:ext cx="1451160" cy="2444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417840" y="930240"/>
            <a:ext cx="1218960" cy="419400"/>
            <a:chOff x="3417840" y="930240"/>
            <a:chExt cx="1218960" cy="419400"/>
          </a:xfrm>
        </p:grpSpPr>
        <p:sp>
          <p:nvSpPr>
            <p:cNvPr id="190" name=""/>
            <p:cNvSpPr/>
            <p:nvPr/>
          </p:nvSpPr>
          <p:spPr>
            <a:xfrm>
              <a:off x="3421080" y="930240"/>
              <a:ext cx="1207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ffff00"/>
                  </a:solidFill>
                  <a:latin typeface="Arial"/>
                </a:rPr>
                <a:t>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HEMOCETTO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17840" y="930240"/>
              <a:ext cx="121896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922480" y="1654200"/>
            <a:ext cx="522360" cy="419400"/>
            <a:chOff x="2922480" y="1654200"/>
            <a:chExt cx="522360" cy="419400"/>
          </a:xfrm>
        </p:grpSpPr>
        <p:sp>
          <p:nvSpPr>
            <p:cNvPr id="193" name=""/>
            <p:cNvSpPr/>
            <p:nvPr/>
          </p:nvSpPr>
          <p:spPr>
            <a:xfrm>
              <a:off x="2924640" y="1654200"/>
              <a:ext cx="517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US" sz="1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 N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22480" y="1654200"/>
              <a:ext cx="52236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589040" y="930240"/>
            <a:ext cx="1219320" cy="398520"/>
            <a:chOff x="1589040" y="930240"/>
            <a:chExt cx="1219320" cy="398520"/>
          </a:xfrm>
        </p:grpSpPr>
        <p:sp>
          <p:nvSpPr>
            <p:cNvPr id="196" name=""/>
            <p:cNvSpPr/>
            <p:nvPr/>
          </p:nvSpPr>
          <p:spPr>
            <a:xfrm>
              <a:off x="1592280" y="930240"/>
              <a:ext cx="1207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FLU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CHEMOCETTOR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9040" y="930240"/>
              <a:ext cx="121932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589040" y="1492200"/>
            <a:ext cx="690480" cy="398520"/>
            <a:chOff x="1589040" y="1492200"/>
            <a:chExt cx="690480" cy="398520"/>
          </a:xfrm>
        </p:grpSpPr>
        <p:sp>
          <p:nvSpPr>
            <p:cNvPr id="199" name=""/>
            <p:cNvSpPr/>
            <p:nvPr/>
          </p:nvSpPr>
          <p:spPr>
            <a:xfrm>
              <a:off x="1590840" y="1492200"/>
              <a:ext cx="68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FLUSS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 N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9040" y="1492200"/>
              <a:ext cx="690480" cy="3967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232080" y="6348240"/>
            <a:ext cx="3943440" cy="0"/>
          </a:xfrm>
          <a:prstGeom prst="line">
            <a:avLst/>
          </a:prstGeom>
          <a:ln w="93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175520" y="3292560"/>
            <a:ext cx="0" cy="30556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232080" y="6065640"/>
            <a:ext cx="2928960" cy="126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305400" y="761760"/>
            <a:ext cx="0" cy="1050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57920" y="2209680"/>
            <a:ext cx="0" cy="4730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765760" y="3308040"/>
            <a:ext cx="0" cy="23144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61040" y="2209680"/>
            <a:ext cx="0" cy="385632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87680" y="5410080"/>
            <a:ext cx="2365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3504960"/>
            <a:ext cx="0" cy="1873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85040" y="3187800"/>
            <a:ext cx="0" cy="20541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27920" y="2133720"/>
            <a:ext cx="1800" cy="44179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69160" y="5622840"/>
            <a:ext cx="1605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8827560" y="990720"/>
            <a:ext cx="1800" cy="898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4400" y="3063960"/>
            <a:ext cx="10951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9760" y="3063960"/>
            <a:ext cx="3906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71960" y="3063960"/>
            <a:ext cx="1764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9280" y="3063960"/>
            <a:ext cx="18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31000" y="3063960"/>
            <a:ext cx="2588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51200" y="4905360"/>
            <a:ext cx="89676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09760" y="2400480"/>
            <a:ext cx="179280" cy="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17680" y="2400480"/>
            <a:ext cx="0" cy="5108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176480" y="2911320"/>
            <a:ext cx="241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23520" y="6110280"/>
            <a:ext cx="1041480" cy="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23880" y="3368520"/>
            <a:ext cx="0" cy="2741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952560" y="5410080"/>
            <a:ext cx="712800" cy="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52560" y="3384720"/>
            <a:ext cx="0" cy="2025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98920" y="511668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79800" y="3814920"/>
            <a:ext cx="0" cy="1301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147480" y="3814920"/>
            <a:ext cx="1731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147840" y="3384360"/>
            <a:ext cx="0" cy="4302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68760" y="4162320"/>
            <a:ext cx="88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57680" y="3444480"/>
            <a:ext cx="0" cy="7174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03680" y="4162320"/>
            <a:ext cx="6141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03680" y="3951360"/>
            <a:ext cx="1188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922480" y="3384720"/>
            <a:ext cx="0" cy="5666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31280" y="6551640"/>
            <a:ext cx="83962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31640" y="3368520"/>
            <a:ext cx="0" cy="31831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51960" y="304920"/>
            <a:ext cx="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59880" y="181080"/>
            <a:ext cx="0" cy="1839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12840" y="4527360"/>
            <a:ext cx="0" cy="19188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12840" y="4527720"/>
            <a:ext cx="57168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829640" y="2400120"/>
            <a:ext cx="0" cy="21272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45080" y="2400480"/>
            <a:ext cx="4842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45440" y="599760"/>
            <a:ext cx="0" cy="1800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927840" y="600120"/>
            <a:ext cx="4176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45440" y="762120"/>
            <a:ext cx="60156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08360" y="1160640"/>
            <a:ext cx="623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112840" y="599760"/>
            <a:ext cx="0" cy="33012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12840" y="600120"/>
            <a:ext cx="13050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57680" y="600120"/>
            <a:ext cx="4906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1492200"/>
            <a:ext cx="10126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175520" y="929880"/>
            <a:ext cx="0" cy="11206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75520" y="930240"/>
            <a:ext cx="7714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57680" y="990720"/>
            <a:ext cx="28728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44960" y="990720"/>
            <a:ext cx="0" cy="6634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71960" y="1654200"/>
            <a:ext cx="90828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52560" y="1147680"/>
            <a:ext cx="0" cy="16113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360" y="288612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ES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RTER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9000" y="2759040"/>
            <a:ext cx="982440" cy="609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9000" y="3308400"/>
            <a:ext cx="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31640" y="196560"/>
            <a:ext cx="0" cy="256212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1640" y="181080"/>
            <a:ext cx="8328240" cy="158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09760" y="3247920"/>
            <a:ext cx="0" cy="16574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9760" y="4905360"/>
            <a:ext cx="2556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176480" y="3247920"/>
            <a:ext cx="2412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89040" y="3187800"/>
            <a:ext cx="0" cy="97452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89040" y="4162320"/>
            <a:ext cx="21132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76480" y="3187800"/>
            <a:ext cx="41256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579760" y="5622840"/>
            <a:ext cx="31860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922480" y="26064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2480" y="2606760"/>
            <a:ext cx="306396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986440" y="2209320"/>
            <a:ext cx="0" cy="3970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61040" y="1492200"/>
            <a:ext cx="0" cy="3207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95360" y="1812960"/>
            <a:ext cx="6271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32040" y="2400480"/>
            <a:ext cx="223992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48360" y="441360"/>
            <a:ext cx="56016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148360" y="304560"/>
            <a:ext cx="0" cy="1364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23880" y="304920"/>
            <a:ext cx="452448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3880" y="304560"/>
            <a:ext cx="0" cy="245412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249200" y="1812960"/>
            <a:ext cx="339840" cy="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49200" y="1812960"/>
            <a:ext cx="0" cy="10224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80240" y="1654200"/>
            <a:ext cx="0" cy="1587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944960" y="2050560"/>
            <a:ext cx="0" cy="3495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71960" y="2050920"/>
            <a:ext cx="79380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48360" y="600120"/>
            <a:ext cx="0" cy="892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71440" y="2835360"/>
            <a:ext cx="77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927840" y="2050920"/>
            <a:ext cx="2476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4840" y="1889280"/>
            <a:ext cx="2320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52560" y="1147680"/>
            <a:ext cx="6364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0880" y="588960"/>
          <a:ext cx="830592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88960"/>
                    <a:ext cx="830592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flipV="1">
            <a:off x="1752480" y="1143000"/>
            <a:ext cx="0" cy="4191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751040" y="5323680"/>
            <a:ext cx="4191120" cy="9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501120" y="316692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u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5638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e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752480" y="2438280"/>
            <a:ext cx="1143000" cy="2895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751040" y="2741040"/>
            <a:ext cx="1724040" cy="2592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765080" y="3390840"/>
            <a:ext cx="2432520" cy="194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ubo rig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1752480" y="1143000"/>
            <a:ext cx="0" cy="4191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51040" y="5323680"/>
            <a:ext cx="5564160" cy="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501120" y="316692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u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5638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e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057400" y="838080"/>
            <a:ext cx="5562720" cy="4496040"/>
            <a:chOff x="2057400" y="838080"/>
            <a:chExt cx="5562720" cy="4496040"/>
          </a:xfrm>
        </p:grpSpPr>
        <p:sp>
          <p:nvSpPr>
            <p:cNvPr id="58" name=""/>
            <p:cNvSpPr/>
            <p:nvPr/>
          </p:nvSpPr>
          <p:spPr>
            <a:xfrm>
              <a:off x="4419720" y="83808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Tubo elas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09680" y="1919160"/>
              <a:ext cx="2652840" cy="3414960"/>
            </a:xfrm>
            <a:custGeom>
              <a:avLst/>
              <a:gdLst/>
              <a:ahLst/>
              <a:rect l="l" t="t" r="r" b="b"/>
              <a:pathLst>
                <a:path w="1671" h="2151">
                  <a:moveTo>
                    <a:pt x="0" y="2151"/>
                  </a:moveTo>
                  <a:cubicBezTo>
                    <a:pt x="71" y="2140"/>
                    <a:pt x="302" y="2109"/>
                    <a:pt x="426" y="2082"/>
                  </a:cubicBezTo>
                  <a:cubicBezTo>
                    <a:pt x="550" y="2055"/>
                    <a:pt x="661" y="2024"/>
                    <a:pt x="744" y="1991"/>
                  </a:cubicBezTo>
                  <a:cubicBezTo>
                    <a:pt x="827" y="1958"/>
                    <a:pt x="866" y="1927"/>
                    <a:pt x="926" y="1882"/>
                  </a:cubicBezTo>
                  <a:cubicBezTo>
                    <a:pt x="986" y="1837"/>
                    <a:pt x="1034" y="1802"/>
                    <a:pt x="1104" y="1719"/>
                  </a:cubicBezTo>
                  <a:cubicBezTo>
                    <a:pt x="1174" y="1636"/>
                    <a:pt x="1283" y="1507"/>
                    <a:pt x="1344" y="1383"/>
                  </a:cubicBezTo>
                  <a:cubicBezTo>
                    <a:pt x="1405" y="1259"/>
                    <a:pt x="1417" y="1203"/>
                    <a:pt x="1471" y="973"/>
                  </a:cubicBezTo>
                  <a:lnTo>
                    <a:pt x="1671" y="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6200000">
              <a:off x="1076400" y="303804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Pressione critica di chiusura (apertur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09320" y="4495680"/>
              <a:ext cx="228600" cy="762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29200" y="190512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esistenza costante (tubo rigid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00600" y="2590920"/>
              <a:ext cx="914400" cy="3808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209680" y="2265480"/>
            <a:ext cx="4496040" cy="3054240"/>
            <a:chOff x="2209680" y="2265480"/>
            <a:chExt cx="4496040" cy="3054240"/>
          </a:xfrm>
        </p:grpSpPr>
        <p:sp>
          <p:nvSpPr>
            <p:cNvPr id="65" name=""/>
            <p:cNvSpPr/>
            <p:nvPr/>
          </p:nvSpPr>
          <p:spPr>
            <a:xfrm>
              <a:off x="2209680" y="2265480"/>
              <a:ext cx="4183200" cy="3054240"/>
            </a:xfrm>
            <a:custGeom>
              <a:avLst/>
              <a:gdLst/>
              <a:ahLst/>
              <a:rect l="l" t="t" r="r" b="b"/>
              <a:pathLst>
                <a:path w="2635" h="1924">
                  <a:moveTo>
                    <a:pt x="0" y="1924"/>
                  </a:moveTo>
                  <a:cubicBezTo>
                    <a:pt x="71" y="1913"/>
                    <a:pt x="298" y="1880"/>
                    <a:pt x="426" y="1855"/>
                  </a:cubicBezTo>
                  <a:cubicBezTo>
                    <a:pt x="554" y="1830"/>
                    <a:pt x="680" y="1806"/>
                    <a:pt x="771" y="1773"/>
                  </a:cubicBezTo>
                  <a:cubicBezTo>
                    <a:pt x="862" y="1740"/>
                    <a:pt x="901" y="1708"/>
                    <a:pt x="971" y="1655"/>
                  </a:cubicBezTo>
                  <a:cubicBezTo>
                    <a:pt x="1041" y="1602"/>
                    <a:pt x="1085" y="1498"/>
                    <a:pt x="1190" y="1455"/>
                  </a:cubicBezTo>
                  <a:cubicBezTo>
                    <a:pt x="1295" y="1412"/>
                    <a:pt x="1469" y="1414"/>
                    <a:pt x="1599" y="1400"/>
                  </a:cubicBezTo>
                  <a:cubicBezTo>
                    <a:pt x="1729" y="1386"/>
                    <a:pt x="1842" y="1418"/>
                    <a:pt x="1971" y="1373"/>
                  </a:cubicBezTo>
                  <a:cubicBezTo>
                    <a:pt x="2100" y="1328"/>
                    <a:pt x="2260" y="1357"/>
                    <a:pt x="2371" y="1128"/>
                  </a:cubicBezTo>
                  <a:lnTo>
                    <a:pt x="2635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480" y="464832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utoregolazi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762120"/>
            <a:ext cx="2057400" cy="5351760"/>
            <a:chOff x="228600" y="762120"/>
            <a:chExt cx="2057400" cy="5351760"/>
          </a:xfrm>
        </p:grpSpPr>
        <p:sp>
          <p:nvSpPr>
            <p:cNvPr id="68" name=""/>
            <p:cNvSpPr/>
            <p:nvPr/>
          </p:nvSpPr>
          <p:spPr>
            <a:xfrm>
              <a:off x="304920" y="7621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60020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ORTOSIM-PA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54100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ff"/>
                  </a:solidFill>
                  <a:latin typeface="Comic Sans MS"/>
                </a:rPr>
                <a:t>PARASIM-PA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391520" y="762120"/>
            <a:ext cx="1752480" cy="5228640"/>
            <a:chOff x="7391520" y="762120"/>
            <a:chExt cx="1752480" cy="5228640"/>
          </a:xfrm>
        </p:grpSpPr>
        <p:sp>
          <p:nvSpPr>
            <p:cNvPr id="72" name=""/>
            <p:cNvSpPr/>
            <p:nvPr/>
          </p:nvSpPr>
          <p:spPr>
            <a:xfrm>
              <a:off x="7391520" y="7621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00"/>
                  </a:solidFill>
                  <a:latin typeface="Comic Sans MS"/>
                </a:rPr>
                <a:t>Postgang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1520" y="1523880"/>
              <a:ext cx="1523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Rami comunicanti grigi (n. spinal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1520" y="54100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ff"/>
                  </a:solidFill>
                  <a:latin typeface="Comic Sans MS"/>
                </a:rPr>
                <a:t>Plesso cardia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81080" y="762120"/>
            <a:ext cx="2210040" cy="5715360"/>
            <a:chOff x="1981080" y="762120"/>
            <a:chExt cx="2210040" cy="5715360"/>
          </a:xfrm>
        </p:grpSpPr>
        <p:grpSp>
          <p:nvGrpSpPr>
            <p:cNvPr id="76" name=""/>
            <p:cNvGrpSpPr/>
            <p:nvPr/>
          </p:nvGrpSpPr>
          <p:grpSpPr>
            <a:xfrm>
              <a:off x="1981080" y="762120"/>
              <a:ext cx="2210040" cy="5715360"/>
              <a:chOff x="1981080" y="762120"/>
              <a:chExt cx="2210040" cy="5715360"/>
            </a:xfrm>
          </p:grpSpPr>
          <p:sp>
            <p:nvSpPr>
              <p:cNvPr id="77" name=""/>
              <p:cNvSpPr/>
              <p:nvPr/>
            </p:nvSpPr>
            <p:spPr>
              <a:xfrm>
                <a:off x="2057400" y="7621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Comic Sans MS"/>
                  </a:rPr>
                  <a:t>centr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1523880"/>
                <a:ext cx="2210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ffffff"/>
                    </a:solidFill>
                    <a:latin typeface="Comic Sans MS"/>
                  </a:rPr>
                  <a:t>Col. Intermedio-laterali mid. Toraco-lombare (C7-L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57400" y="5410080"/>
                <a:ext cx="16765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ff"/>
                    </a:solidFill>
                    <a:latin typeface="Comic Sans MS"/>
                  </a:rPr>
                  <a:t>Bulbo: nucleo mot. dorsale, nucleo ambigu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200400" y="99072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86200" y="762120"/>
            <a:ext cx="1981080" cy="5304960"/>
            <a:chOff x="3886200" y="762120"/>
            <a:chExt cx="1981080" cy="5304960"/>
          </a:xfrm>
        </p:grpSpPr>
        <p:grpSp>
          <p:nvGrpSpPr>
            <p:cNvPr id="82" name=""/>
            <p:cNvGrpSpPr/>
            <p:nvPr/>
          </p:nvGrpSpPr>
          <p:grpSpPr>
            <a:xfrm>
              <a:off x="3886200" y="762120"/>
              <a:ext cx="1981080" cy="5304960"/>
              <a:chOff x="3886200" y="762120"/>
              <a:chExt cx="1981080" cy="5304960"/>
            </a:xfrm>
          </p:grpSpPr>
          <p:sp>
            <p:nvSpPr>
              <p:cNvPr id="83" name=""/>
              <p:cNvSpPr/>
              <p:nvPr/>
            </p:nvSpPr>
            <p:spPr>
              <a:xfrm>
                <a:off x="3886200" y="762120"/>
                <a:ext cx="1523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00"/>
                    </a:solidFill>
                    <a:latin typeface="Comic Sans MS"/>
                  </a:rPr>
                  <a:t>Pregangl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38480" y="1447920"/>
                <a:ext cx="1524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Rami comunicanti bianch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886200" y="5486400"/>
                <a:ext cx="1981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ff"/>
                    </a:solidFill>
                    <a:latin typeface="Comic Sans MS"/>
                  </a:rPr>
                  <a:t>Fibre efferenti vagal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5257800" y="990720"/>
              <a:ext cx="6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34120" y="762120"/>
            <a:ext cx="2133360" cy="5304960"/>
            <a:chOff x="5334120" y="762120"/>
            <a:chExt cx="2133360" cy="5304960"/>
          </a:xfrm>
        </p:grpSpPr>
        <p:sp>
          <p:nvSpPr>
            <p:cNvPr id="88" name=""/>
            <p:cNvSpPr/>
            <p:nvPr/>
          </p:nvSpPr>
          <p:spPr>
            <a:xfrm>
              <a:off x="5715000" y="7621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gang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1371600"/>
              <a:ext cx="2133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Catena prevertebrale; gangli paravertebr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1320" y="548640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ff"/>
                  </a:solidFill>
                  <a:latin typeface="Comic Sans MS"/>
                </a:rPr>
                <a:t>Plesso cardia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81680" y="990720"/>
              <a:ext cx="6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04920" y="2057400"/>
            <a:ext cx="6171840" cy="3352680"/>
            <a:chOff x="304920" y="2057400"/>
            <a:chExt cx="6171840" cy="3352680"/>
          </a:xfrm>
        </p:grpSpPr>
        <p:sp>
          <p:nvSpPr>
            <p:cNvPr id="93" name=""/>
            <p:cNvSpPr/>
            <p:nvPr/>
          </p:nvSpPr>
          <p:spPr>
            <a:xfrm>
              <a:off x="2514600" y="2666880"/>
              <a:ext cx="18288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Acetilcoli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(rec. Nicotinic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276720"/>
              <a:ext cx="182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mic Sans MS"/>
                </a:rPr>
                <a:t>MEDIATORI CHIMICI E RECETT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886200"/>
              <a:ext cx="22860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66ffff"/>
                  </a:solidFill>
                  <a:latin typeface="Comic Sans MS"/>
                </a:rPr>
                <a:t>Acetilco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66ffff"/>
                  </a:solidFill>
                  <a:latin typeface="Comic Sans MS"/>
                </a:rPr>
                <a:t>(rec. Nicotinic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962520" y="2057400"/>
              <a:ext cx="1752480" cy="685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3885840" y="4572000"/>
              <a:ext cx="2590920" cy="838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191120" y="2362320"/>
            <a:ext cx="3885840" cy="3124080"/>
            <a:chOff x="4191120" y="2362320"/>
            <a:chExt cx="3885840" cy="3124080"/>
          </a:xfrm>
        </p:grpSpPr>
        <p:sp>
          <p:nvSpPr>
            <p:cNvPr id="99" name=""/>
            <p:cNvSpPr/>
            <p:nvPr/>
          </p:nvSpPr>
          <p:spPr>
            <a:xfrm>
              <a:off x="4343400" y="2666880"/>
              <a:ext cx="19810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Noradrena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(rec </a:t>
              </a:r>
              <a:r>
                <a:rPr b="0" lang="it-IT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 e </a:t>
              </a:r>
              <a:r>
                <a:rPr b="0" lang="it-IT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it-IT" sz="1600" spc="-1" strike="noStrike">
                  <a:solidFill>
                    <a:srgbClr val="ffffff"/>
                  </a:solidFill>
                  <a:latin typeface="Comic Sans MS"/>
                </a:rPr>
                <a:t>-adrenergic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3962520"/>
              <a:ext cx="24382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66ffff"/>
                  </a:solidFill>
                  <a:latin typeface="Comic Sans MS"/>
                </a:rPr>
                <a:t>Acetilcol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66ffff"/>
                  </a:solidFill>
                  <a:latin typeface="Comic Sans MS"/>
                </a:rPr>
                <a:t>(rec. Muscarinic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19920" y="2362320"/>
              <a:ext cx="1752480" cy="53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324120" y="4572000"/>
              <a:ext cx="1752840" cy="914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495680" y="3200400"/>
            <a:ext cx="4648320" cy="1078200"/>
            <a:chOff x="4495680" y="3200400"/>
            <a:chExt cx="4648320" cy="1078200"/>
          </a:xfrm>
        </p:grpSpPr>
        <p:sp>
          <p:nvSpPr>
            <p:cNvPr id="104" name=""/>
            <p:cNvSpPr/>
            <p:nvPr/>
          </p:nvSpPr>
          <p:spPr>
            <a:xfrm>
              <a:off x="5867280" y="3200400"/>
              <a:ext cx="32767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Ecci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Comic Sans MS"/>
                </a:rPr>
                <a:t>                                </a:t>
              </a:r>
              <a:r>
                <a:rPr b="0" lang="en-US" sz="1600" spc="-1" strike="noStrike">
                  <a:solidFill>
                    <a:srgbClr val="ffff00"/>
                  </a:solidFill>
                  <a:latin typeface="Comic Sans MS"/>
                </a:rPr>
                <a:t>effet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ff"/>
                  </a:solidFill>
                  <a:latin typeface="Comic Sans MS"/>
                </a:rPr>
                <a:t>Inibi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733920"/>
              <a:ext cx="35053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882080" y="152280"/>
            <a:ext cx="5586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l sistema nervoso auton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76200" y="592200"/>
          <a:ext cx="82980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592200"/>
                    <a:ext cx="82980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 flipV="1">
            <a:off x="1752480" y="1143000"/>
            <a:ext cx="0" cy="4191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751040" y="5323680"/>
            <a:ext cx="5564160" cy="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562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e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55800" y="2279520"/>
            <a:ext cx="3390840" cy="3017880"/>
          </a:xfrm>
          <a:custGeom>
            <a:avLst/>
            <a:gdLst/>
            <a:ahLst/>
            <a:rect l="l" t="t" r="r" b="b"/>
            <a:pathLst>
              <a:path w="2136" h="1901">
                <a:moveTo>
                  <a:pt x="0" y="1901"/>
                </a:moveTo>
                <a:cubicBezTo>
                  <a:pt x="35" y="1895"/>
                  <a:pt x="147" y="1884"/>
                  <a:pt x="218" y="1864"/>
                </a:cubicBezTo>
                <a:cubicBezTo>
                  <a:pt x="289" y="1844"/>
                  <a:pt x="360" y="1824"/>
                  <a:pt x="427" y="1782"/>
                </a:cubicBezTo>
                <a:cubicBezTo>
                  <a:pt x="494" y="1740"/>
                  <a:pt x="562" y="1708"/>
                  <a:pt x="618" y="1610"/>
                </a:cubicBezTo>
                <a:cubicBezTo>
                  <a:pt x="674" y="1512"/>
                  <a:pt x="722" y="1324"/>
                  <a:pt x="764" y="1191"/>
                </a:cubicBezTo>
                <a:cubicBezTo>
                  <a:pt x="806" y="1058"/>
                  <a:pt x="824" y="931"/>
                  <a:pt x="873" y="810"/>
                </a:cubicBezTo>
                <a:cubicBezTo>
                  <a:pt x="922" y="689"/>
                  <a:pt x="995" y="558"/>
                  <a:pt x="1055" y="464"/>
                </a:cubicBezTo>
                <a:cubicBezTo>
                  <a:pt x="1115" y="370"/>
                  <a:pt x="1150" y="310"/>
                  <a:pt x="1236" y="246"/>
                </a:cubicBezTo>
                <a:cubicBezTo>
                  <a:pt x="1322" y="182"/>
                  <a:pt x="1423" y="123"/>
                  <a:pt x="1573" y="82"/>
                </a:cubicBezTo>
                <a:cubicBezTo>
                  <a:pt x="1723" y="41"/>
                  <a:pt x="2019" y="17"/>
                  <a:pt x="213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1209960" y="3113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requenza di sca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886200" y="1828440"/>
            <a:ext cx="0" cy="3505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222640"/>
            <a:ext cx="3436920" cy="3081240"/>
          </a:xfrm>
          <a:custGeom>
            <a:avLst/>
            <a:gdLst/>
            <a:ahLst/>
            <a:rect l="l" t="t" r="r" b="b"/>
            <a:pathLst>
              <a:path w="2165" h="1941">
                <a:moveTo>
                  <a:pt x="0" y="1941"/>
                </a:moveTo>
                <a:cubicBezTo>
                  <a:pt x="35" y="1935"/>
                  <a:pt x="148" y="1935"/>
                  <a:pt x="218" y="1904"/>
                </a:cubicBezTo>
                <a:cubicBezTo>
                  <a:pt x="288" y="1873"/>
                  <a:pt x="359" y="1818"/>
                  <a:pt x="420" y="1755"/>
                </a:cubicBezTo>
                <a:cubicBezTo>
                  <a:pt x="481" y="1692"/>
                  <a:pt x="530" y="1639"/>
                  <a:pt x="583" y="1527"/>
                </a:cubicBezTo>
                <a:cubicBezTo>
                  <a:pt x="636" y="1415"/>
                  <a:pt x="690" y="1232"/>
                  <a:pt x="738" y="1082"/>
                </a:cubicBezTo>
                <a:cubicBezTo>
                  <a:pt x="786" y="932"/>
                  <a:pt x="823" y="753"/>
                  <a:pt x="874" y="627"/>
                </a:cubicBezTo>
                <a:cubicBezTo>
                  <a:pt x="925" y="501"/>
                  <a:pt x="986" y="404"/>
                  <a:pt x="1047" y="327"/>
                </a:cubicBezTo>
                <a:cubicBezTo>
                  <a:pt x="1108" y="250"/>
                  <a:pt x="1149" y="209"/>
                  <a:pt x="1238" y="164"/>
                </a:cubicBezTo>
                <a:cubicBezTo>
                  <a:pt x="1327" y="119"/>
                  <a:pt x="1429" y="82"/>
                  <a:pt x="1583" y="55"/>
                </a:cubicBezTo>
                <a:cubicBezTo>
                  <a:pt x="1737" y="28"/>
                  <a:pt x="2044" y="11"/>
                  <a:pt x="2165" y="0"/>
                </a:cubicBezTo>
              </a:path>
            </a:pathLst>
          </a:custGeom>
          <a:noFill/>
          <a:ln w="2844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581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essione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2004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essione pulsa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419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o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523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atu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286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Dinamica dei barocettori: scarica del nervo di 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1752480" y="1143000"/>
            <a:ext cx="0" cy="4191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751040" y="5323680"/>
            <a:ext cx="5564160" cy="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562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e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55800" y="2279520"/>
            <a:ext cx="3390840" cy="3017880"/>
          </a:xfrm>
          <a:custGeom>
            <a:avLst/>
            <a:gdLst/>
            <a:ahLst/>
            <a:rect l="l" t="t" r="r" b="b"/>
            <a:pathLst>
              <a:path w="2136" h="1901">
                <a:moveTo>
                  <a:pt x="0" y="1901"/>
                </a:moveTo>
                <a:cubicBezTo>
                  <a:pt x="35" y="1895"/>
                  <a:pt x="147" y="1884"/>
                  <a:pt x="218" y="1864"/>
                </a:cubicBezTo>
                <a:cubicBezTo>
                  <a:pt x="289" y="1844"/>
                  <a:pt x="360" y="1824"/>
                  <a:pt x="427" y="1782"/>
                </a:cubicBezTo>
                <a:cubicBezTo>
                  <a:pt x="494" y="1740"/>
                  <a:pt x="562" y="1708"/>
                  <a:pt x="618" y="1610"/>
                </a:cubicBezTo>
                <a:cubicBezTo>
                  <a:pt x="674" y="1512"/>
                  <a:pt x="722" y="1324"/>
                  <a:pt x="764" y="1191"/>
                </a:cubicBezTo>
                <a:cubicBezTo>
                  <a:pt x="806" y="1058"/>
                  <a:pt x="824" y="931"/>
                  <a:pt x="873" y="810"/>
                </a:cubicBezTo>
                <a:cubicBezTo>
                  <a:pt x="922" y="689"/>
                  <a:pt x="995" y="558"/>
                  <a:pt x="1055" y="464"/>
                </a:cubicBezTo>
                <a:cubicBezTo>
                  <a:pt x="1115" y="370"/>
                  <a:pt x="1150" y="310"/>
                  <a:pt x="1236" y="246"/>
                </a:cubicBezTo>
                <a:cubicBezTo>
                  <a:pt x="1322" y="182"/>
                  <a:pt x="1423" y="123"/>
                  <a:pt x="1573" y="82"/>
                </a:cubicBezTo>
                <a:cubicBezTo>
                  <a:pt x="1723" y="41"/>
                  <a:pt x="2019" y="17"/>
                  <a:pt x="213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1209960" y="3113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requenza di sca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86200" y="1828440"/>
            <a:ext cx="0" cy="3505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286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inamica dei barocettori: adat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505320" y="1828440"/>
            <a:ext cx="3390840" cy="4056840"/>
            <a:chOff x="3505320" y="1828440"/>
            <a:chExt cx="3390840" cy="4056840"/>
          </a:xfrm>
        </p:grpSpPr>
        <p:sp>
          <p:nvSpPr>
            <p:cNvPr id="131" name=""/>
            <p:cNvSpPr/>
            <p:nvPr/>
          </p:nvSpPr>
          <p:spPr>
            <a:xfrm flipV="1">
              <a:off x="4648320" y="1828440"/>
              <a:ext cx="0" cy="350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5486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2286000"/>
              <a:ext cx="3390840" cy="3017880"/>
            </a:xfrm>
            <a:custGeom>
              <a:avLst/>
              <a:gdLst/>
              <a:ahLst/>
              <a:rect l="l" t="t" r="r" b="b"/>
              <a:pathLst>
                <a:path w="2136" h="1901">
                  <a:moveTo>
                    <a:pt x="0" y="1901"/>
                  </a:moveTo>
                  <a:cubicBezTo>
                    <a:pt x="35" y="1895"/>
                    <a:pt x="147" y="1884"/>
                    <a:pt x="218" y="1864"/>
                  </a:cubicBezTo>
                  <a:cubicBezTo>
                    <a:pt x="289" y="1844"/>
                    <a:pt x="360" y="1824"/>
                    <a:pt x="427" y="1782"/>
                  </a:cubicBezTo>
                  <a:cubicBezTo>
                    <a:pt x="494" y="1740"/>
                    <a:pt x="562" y="1708"/>
                    <a:pt x="618" y="1610"/>
                  </a:cubicBezTo>
                  <a:cubicBezTo>
                    <a:pt x="674" y="1512"/>
                    <a:pt x="722" y="1324"/>
                    <a:pt x="764" y="1191"/>
                  </a:cubicBezTo>
                  <a:cubicBezTo>
                    <a:pt x="806" y="1058"/>
                    <a:pt x="824" y="931"/>
                    <a:pt x="873" y="810"/>
                  </a:cubicBezTo>
                  <a:cubicBezTo>
                    <a:pt x="922" y="689"/>
                    <a:pt x="995" y="558"/>
                    <a:pt x="1055" y="464"/>
                  </a:cubicBezTo>
                  <a:cubicBezTo>
                    <a:pt x="1115" y="370"/>
                    <a:pt x="1150" y="310"/>
                    <a:pt x="1236" y="246"/>
                  </a:cubicBezTo>
                  <a:cubicBezTo>
                    <a:pt x="1322" y="182"/>
                    <a:pt x="1423" y="123"/>
                    <a:pt x="1573" y="82"/>
                  </a:cubicBezTo>
                  <a:cubicBezTo>
                    <a:pt x="1723" y="41"/>
                    <a:pt x="2019" y="17"/>
                    <a:pt x="2136" y="0"/>
                  </a:cubicBezTo>
                </a:path>
              </a:pathLst>
            </a:custGeom>
            <a:noFill/>
            <a:ln w="2844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9600" y="147600"/>
          <a:ext cx="8364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47600"/>
                    <a:ext cx="8364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6:10:42Z</dcterms:created>
  <dc:creator>Antonio Cevese</dc:creator>
  <dc:description/>
  <dc:language>en-US</dc:language>
  <cp:lastModifiedBy>Antonio Cevese</cp:lastModifiedBy>
  <dcterms:modified xsi:type="dcterms:W3CDTF">2008-12-16T12:48:46Z</dcterms:modified>
  <cp:revision>3</cp:revision>
  <dc:subject/>
  <dc:title>Diapositiva 1</dc:title>
</cp:coreProperties>
</file>